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652-BE04-4322-A374-7BC04980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0FC-C493-4BF3-9AD4-EE37D1D6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B2E-49FC-413D-A209-F21E234C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B00-5DBF-4F9C-B17E-57769635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A2BA-AD00-44B5-BD3B-DD62B26E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541B-7F17-41FB-86E8-2D666C8F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9913-AF4E-4F0F-827B-AA0989ED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312B-03BE-4FF2-8E56-F9EF9DD2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180-987C-4BB3-B19E-920670D6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81A1-4038-49D5-BE8F-69F0282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4BBD-A610-45DB-9358-6B90BEB3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C3B-D2ED-418A-AEBD-C0376A0F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3A3C-73A5-4C7A-8C7D-BF0A0224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C4E2-54B1-4735-9F82-68D305C5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E46D-1B59-48B4-87E5-85445C0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8DC3-9EBB-42B7-9E08-4D56AE09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7CBB-854F-45BF-803F-DD038557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2FF3A-E37C-43F6-BBC1-B5D040E0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02D1D-6922-40B6-8DE4-0CD83E4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CC37D-B50D-4E12-9680-BD632ACA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65F52-C3F7-46D9-8492-648091CF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BD297-01FE-477A-9667-1C5949E9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A65-B1DB-4370-A2DA-243639FC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D87B3-0F97-4691-A71E-2288F9E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D84FA-6368-47AF-AB3B-D300BF1A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BDB1F-4F05-4CF0-8BF7-F5095C5E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EBBF9-9C94-4272-B71E-A8B83A6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E9C75-62ED-4BD8-9E88-18E0306F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2825F-9D1B-4F2A-9714-3691D883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6976F-B54F-4AFD-B6A6-390261A8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1C007-1DA7-4BC3-96AA-6C2B945A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4E433-EAB4-4071-B1E4-89535E8B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4DB9-BF89-4066-B9E8-6356B7A9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7C8-34B6-4998-9D93-DAC10A34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D6F12-25D7-4C9B-A425-C277B088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43F0-B961-4EF3-9A43-EA50A537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B9BF-A1C3-4982-A80D-3603919E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E8D4-C92A-4B11-AE41-F1374FE5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9FA1E-60B9-43BF-8255-6B821B3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C16B-2FF6-49A2-9085-1631982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8B69F-7748-40C5-AB17-AD1962B7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422F-316B-48AC-89B8-EADD6DA0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54A6-9776-418D-8A1E-875D9B60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CF8-D66F-4224-80CE-98AA1E2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5B4-B9B0-4E6B-BFD5-F2D7130A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57C-16C9-4962-B3FD-8F4EEA4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2BE-BDF8-46EF-84E8-4617217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DF2-0292-49B9-B617-A4B3C10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D592-A2CF-41CB-BA00-E2BA07F52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9176-0743-4584-9D7E-4576CA31B5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FEEF-05A7-4BB4-8107-5FF215FF36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8BB2-9A67-45C0-9791-F81230DE57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аблица 3" descr=""/>
          <p:cNvPicPr/>
          <p:nvPr/>
        </p:nvPicPr>
        <p:blipFill>
          <a:blip r:embed="rId1"/>
          <a:stretch/>
        </p:blipFill>
        <p:spPr>
          <a:xfrm>
            <a:off x="281160" y="1292400"/>
            <a:ext cx="8581680" cy="38653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(5502 и 5505)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- ЗАПОЛНЯТЬ!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Форма 30, таблица 5503</a:t>
            </a:r>
            <a:br>
              <a:rPr sz="36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«посмертные патологоанатомические исследования (вскрытия)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8560" y="191592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олняется строго на основе проведенны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патологоанатомических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вскрыти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разбивкой по категориям сложности: на мониторинге МЗ ЗК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аз № 601 от 06.12.2017 г. «О совершенствовании организации посмертного патологоанатомического исследования (вскрытия) в медицинских организациях Забайкальского края» - утверждён перечень категорий сложности патологоанатомических вскры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79280" y="260280"/>
          <a:ext cx="8721720" cy="6621480"/>
        </p:xfrm>
        <a:graphic>
          <a:graphicData uri="http://schemas.openxmlformats.org/drawingml/2006/table">
            <a:tbl>
              <a:tblPr/>
              <a:tblGrid>
                <a:gridCol w="4184640"/>
                <a:gridCol w="514440"/>
                <a:gridCol w="515880"/>
                <a:gridCol w="488880"/>
                <a:gridCol w="489240"/>
                <a:gridCol w="487080"/>
                <a:gridCol w="490680"/>
                <a:gridCol w="485640"/>
                <a:gridCol w="106524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ы на сроке менее 22 недель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20" name="Oval 178"/>
          <p:cNvSpPr/>
          <p:nvPr/>
        </p:nvSpPr>
        <p:spPr>
          <a:xfrm>
            <a:off x="4427640" y="2060640"/>
            <a:ext cx="360360" cy="28872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9"/>
          <p:cNvSpPr/>
          <p:nvPr/>
        </p:nvSpPr>
        <p:spPr>
          <a:xfrm>
            <a:off x="4427640" y="2421000"/>
            <a:ext cx="36036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80"/>
          <p:cNvSpPr/>
          <p:nvPr/>
        </p:nvSpPr>
        <p:spPr>
          <a:xfrm flipV="1">
            <a:off x="4427640" y="6524640"/>
            <a:ext cx="369720" cy="33336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81"/>
          <p:cNvSpPr/>
          <p:nvPr/>
        </p:nvSpPr>
        <p:spPr>
          <a:xfrm>
            <a:off x="4427640" y="5877000"/>
            <a:ext cx="36036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БЛАГОВРЕМЕННО сверить данные по вскрытиям с         ПАТОЛОГОАНАТОМАМИ !!!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484280"/>
          <a:ext cx="8229600" cy="51814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Таблица 2402 – умершие на дом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280" y="836640"/>
          <a:ext cx="8785440" cy="5789520"/>
        </p:xfrm>
        <a:graphic>
          <a:graphicData uri="http://schemas.openxmlformats.org/drawingml/2006/table">
            <a:tbl>
              <a:tblPr/>
              <a:tblGrid>
                <a:gridCol w="1297080"/>
                <a:gridCol w="828720"/>
                <a:gridCol w="1063440"/>
                <a:gridCol w="1062360"/>
                <a:gridCol w="1063440"/>
                <a:gridCol w="1062000"/>
                <a:gridCol w="1111320"/>
                <a:gridCol w="1297080"/>
              </a:tblGrid>
              <a:tr h="67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ль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ологоанато-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из графы 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дебно-медицин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шие на дому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де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спосо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числа умерших на дому: пациенты трудоспособного возраста* умерли о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х цереброваскуля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х заболевание (160-164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строго инфаркта миокарда (1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3-02; 8-914-490-90-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ский сектор (г. Чита) – Золотухина Анастасия Олег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1-42-98; 8-914-464-71-54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каменское ПаО – Шлапаков Вадим Викторович и Плакущая Надежда Владимировн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02-34-94; 8-914-145-23-7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79280" y="620640"/>
          <a:ext cx="8785440" cy="592452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836640"/>
          <a:ext cx="8713800" cy="583704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Форма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«Прижизненные патологоанатомические исследования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аблица 550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а прижизненных патологоанатомических и цитологических диагностических исследований по категориям сложности» -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не заполн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7120" y="1195560"/>
          <a:ext cx="8358120" cy="560700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440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9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0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4200" y="714240"/>
          <a:ext cx="8715600" cy="608832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7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Line 91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2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3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8-12-20T08:33:40Z</dcterms:modified>
  <cp:revision>68</cp:revision>
  <dc:subject/>
  <dc:title>Слайд 1</dc:title>
</cp:coreProperties>
</file>