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966F-27A2-45A4-9609-457A5DD5C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0907-AD98-4E09-8AE0-E7CE176A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6DD6-2761-4918-A386-0431A665E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3D29-41A0-4FD7-9DBA-7ADD2F971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472D-BE0E-4E2A-8592-1CEA8B73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8EB3-CB42-4C69-A08D-FEEE613A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84F4-9A43-4D4E-91A7-B80C4A06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6D47-07AD-4D95-BE5C-9C7468FC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FA62-CA15-4633-A84C-D577258F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39DD-FEC6-4C1C-90F8-7C66B167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EA39-C31F-4FAF-94F1-0A88062E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F45D-E26F-41B6-BF71-6BD0B4B1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2633-C68D-40F4-8932-978CE51C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2C94-2B6D-424B-875C-1163E8BE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448C-FC4E-47BD-84D5-19499A55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0316-49AF-4008-958C-81844A0C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11A6-56B9-43AC-A5D5-6AA546B3F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63D2-8384-4C11-A953-2EE8B7C7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9DEF-0C61-4F4E-A93F-B42D3DF5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266A-1BFE-459C-A6AB-FADE595C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AD1B-AE56-4707-A99F-ABBEBCA4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55D6-3D8B-411E-A4FE-B3DC12CA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E784-A135-4E54-8728-31F01803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C605-9E42-4114-9D4A-AC02F7B8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07D4-059B-49DF-879F-8B2C292CE9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5614-F153-4046-BDCD-3881E0DB59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31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ила заполнен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рм №№ 8 и 33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пичные ошибк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00040" y="214200"/>
            <a:ext cx="8229600" cy="34434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571680" y="4000680"/>
            <a:ext cx="8001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Данные по впервые выявленным больным в ф.33 должны быть меньше, чем в ф.8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.к. там все ведомства, а в ф.33 только М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Другие локализации туберкулеза (стр.6 ф.33) соответствуют термину туберкулез внелегочных локализаций (стр.15-16 ф.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Инвалидность стр.8 больше суммы строк 9 и 10, т.к. еще есть 3 груп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Обследовано на АТ к ВИЧ (стр.11) относится только к больным туберкулез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 Положительный результат иммуноблотинга среди контингентов (стр.12 гр.7 )должен быть меньше или равен данным  ф61 табл.2000 стр.3 гр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6. Число больных ТБ+ВИЧ (стр.13) может быть больше стр.12, т.к. включает в себя не только больных ТБ, у которых выявлен ВИЧ, но и больных ВИЧ, у которых выявлен ТБ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858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анные по учету больных ТБ+ВИЧ в ф.61 и ф.33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а не меняе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560" y="571680"/>
            <a:ext cx="86072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/в всег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1000стр(5+6)гр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установлен диагноз впервые, но еще не взяты на диспансерный учет с диагнозом В20.0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gt; ф61т2000стр2.1гр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lt;ф33т2100стр13гр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. учет с диагнозами А15-А19 и В20.0 – 23.0; Z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/в 0-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1000стр(5+6)гр(6-1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установлен диагноз впервые, но еще не 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gt;ф61т2000стр2.1гр8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ансерный учет с диагнозом В20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&lt;ф33т2100стр13гр(5+6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зяты на дисп. учет с диагн. А15-А19 и В20.0 – 23.0; Z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конец г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сег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2000стр2.1гр15= ф33т2100стр13гр7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разницу объясн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-17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ф61т2000стр2.1гр18= ф33т2100стр13гр(8+9)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ницу объясн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азницу объясни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3 больше ф33т2100стр11гр(4+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(4+56+6) больше ф33т2100стр11гр(5+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3100стр1гр7 больше ф33т2100стр11гр(6+9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61табл6000стр17гр 3 больше ф33табл2200стр12гр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24000" y="285840"/>
            <a:ext cx="8619840" cy="13683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304920" y="1628640"/>
            <a:ext cx="865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В таблицах 2110 и 2120 бывают только арифметические ошиб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В таблице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213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часто не обращают внимание на скобку, где указано из стр.1 гр.7, т.е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только больные Т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607120" y="2254320"/>
            <a:ext cx="39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Выявление больных и некоторых групп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блица 2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42960" y="2786040"/>
          <a:ext cx="6095880" cy="2514600"/>
        </p:xfrm>
        <a:graphic>
          <a:graphicData uri="http://schemas.openxmlformats.org/drawingml/2006/table">
            <a:tbl>
              <a:tblPr/>
              <a:tblGrid>
                <a:gridCol w="5651640"/>
                <a:gridCol w="444240"/>
              </a:tblGrid>
              <a:tr h="304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 выявлено больных туберкулезом из числа осмотренных на туберкуле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именением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инодиагност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ена туберкулезного рекомбинантного в стандартном развед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рограф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логических метод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методом бактериоскоп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на учет в IIIА группу диспансерного уче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то на учет в V группу диспансерного учета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42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68760" rIns="68760" tIns="0" bIns="0" anchor="t">
                      <a:noAutofit/>
                    </a:bodyPr>
                    <a:p>
                      <a:pPr marL="142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 умерло больных от туберкулеза постоянных жителей, диагноз у которых установлен посмерт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 умерло больных от ВИЧ-инфекции постоянных жителей, диагноз туберкулеза у которых установлен посмерт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Box 9"/>
          <p:cNvSpPr/>
          <p:nvPr/>
        </p:nvSpPr>
        <p:spPr>
          <a:xfrm>
            <a:off x="324000" y="5429160"/>
            <a:ext cx="864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Сумма строк 2,4,5 должна быть равна строке 1 . Один больной показывается один раз, хотя он может быть обследован разными методами, но указывается только один метод вы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Не забыть, что данные стр.3 входят как часть в строку 2, а данные стр.6 -в стр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Сумма строк 11 и 12 меньше, чем сумма строк ф.8 табл.1000 стр.(33+34) гр.5 (посмертное выявление ТБ), т.к. табл. 2200 постоянные жители, а ф.8 – в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Object 26" descr=""/>
          <p:cNvPicPr/>
          <p:nvPr/>
        </p:nvPicPr>
        <p:blipFill>
          <a:blip r:embed="rId1"/>
          <a:stretch/>
        </p:blipFill>
        <p:spPr>
          <a:xfrm>
            <a:off x="714240" y="285840"/>
            <a:ext cx="9367920" cy="22860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285840" y="2714760"/>
            <a:ext cx="842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Основная проблема – переход по возрасту из детей в подростки и из подростков во взрослые, перешедших по возрасту учитываем как выбывших в своей возрастной категории, а в следующей возрастной категории – как   прибывших. Иначе межгодовой баланс не сходи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Умерших учитываем только из состоявших на уче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Object 27" descr=""/>
          <p:cNvPicPr/>
          <p:nvPr/>
        </p:nvPicPr>
        <p:blipFill>
          <a:blip r:embed="rId2"/>
          <a:stretch/>
        </p:blipFill>
        <p:spPr>
          <a:xfrm>
            <a:off x="285840" y="3860640"/>
            <a:ext cx="8707320" cy="9367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6"/>
          <p:cNvSpPr/>
          <p:nvPr/>
        </p:nvSpPr>
        <p:spPr>
          <a:xfrm>
            <a:off x="428760" y="5143680"/>
            <a:ext cx="842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графах 4,5,6 табл.2310 дополнительно к стр.7 табл.2300 указываются умершие от туберкулеза, не состоявшие на учете в ПТУ М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графах 2 (умерло от ТБ больных ТБ+ВИЧ)и 7(из умерших от других причин, умерло больных  ТБ+ВИЧ)  наоборот, показывают часть больных из строк 7 и 8 табл.2300 соответственно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227160" y="642960"/>
            <a:ext cx="8916840" cy="37227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4"/>
          <p:cNvSpPr/>
          <p:nvPr/>
        </p:nvSpPr>
        <p:spPr>
          <a:xfrm>
            <a:off x="179280" y="4643280"/>
            <a:ext cx="8785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сновная проблема – не сходится межгодовой баланс просто из-за невнима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явлено больных с активным ТБ 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ы табл.2400 стр.3 гр.6 рав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абл.2300 стр.2 гр.(3-4-5) +(9-10-11) (рецидивы 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ы 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зято в текущем году в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A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у строка 8 гр.3 не должно быть меньше, чем в табл.2200 стр.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42920" y="428760"/>
            <a:ext cx="8794800" cy="25225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4"/>
          <p:cNvSpPr/>
          <p:nvPr/>
        </p:nvSpPr>
        <p:spPr>
          <a:xfrm>
            <a:off x="357120" y="3143160"/>
            <a:ext cx="8429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сновная проблема – не сходится межгодовой баланс просто из-за невнима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следовано на МЛУ (стр.2) баланс не счита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явлена МЛУ (стр.3) по вертикали в графах 6-13 может быть больше строки 1 из-за бактериовыделителей, выявленных в прошлом году, у которых МЛУ выявлена в отчетном г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Если баклаборатория не делает посевы или анализы на ЛЧ, надо это отдельно отмет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0" y="4581360"/>
            <a:ext cx="10152000" cy="4795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500040" y="507204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следовано на МБТ (сумма граф 1 и 2) должна быть больше количества в/в больных ТОД, т.к. каждого больного положено обследовать и скопией, и посе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3"/>
          <a:stretch/>
        </p:blipFill>
        <p:spPr>
          <a:xfrm>
            <a:off x="0" y="5715000"/>
            <a:ext cx="9223200" cy="4348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8"/>
          <p:cNvSpPr/>
          <p:nvPr/>
        </p:nvSpPr>
        <p:spPr>
          <a:xfrm>
            <a:off x="864360" y="6143760"/>
            <a:ext cx="28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  Обычно проблем не возник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14200" y="549360"/>
          <a:ext cx="8678880" cy="3178080"/>
        </p:xfrm>
        <a:graphic>
          <a:graphicData uri="http://schemas.openxmlformats.org/drawingml/2006/table">
            <a:tbl>
              <a:tblPr/>
              <a:tblGrid>
                <a:gridCol w="3372120"/>
                <a:gridCol w="309240"/>
                <a:gridCol w="766800"/>
                <a:gridCol w="881280"/>
                <a:gridCol w="776160"/>
                <a:gridCol w="879480"/>
                <a:gridCol w="846000"/>
                <a:gridCol w="847800"/>
              </a:tblGrid>
              <a:tr h="172800">
                <a:tc row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помощ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ых, состоящих на учете 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впервые в жизни установленным диагнозом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14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14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60"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спитализировано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2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86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2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 marL="142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бактериовыделител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1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6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дневные стационары  (из строки 01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2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санатории  (из строки 01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6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9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ы хирургические  методы лечения (всего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туберкулеза органов дыхания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по поводу ФКТ легки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но-суставного  туберкулез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а мочеполовых орган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туберкулезом женских половых орган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а периферических лимфатических узл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в стационаре от туберкулеза больных, состоявших на  учете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8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Rectangle 1"/>
          <p:cNvSpPr/>
          <p:nvPr/>
        </p:nvSpPr>
        <p:spPr>
          <a:xfrm>
            <a:off x="2933640" y="189720"/>
            <a:ext cx="16289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6. Больничная и санаторная помощь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(2600)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д по ОКЕИ: человек - 79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179280" y="3714840"/>
            <a:ext cx="8964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аблица составлена наоборот сначала про контингенты, а потом про в/в.  Иногда пута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оспитализировано всего (строка 1) указываются люди, а не госпитализа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дин и тот же человек может быть госпитализирован сначала в стационар, потом в дневной стационар, потом в санаторий.  Показывать в строках (1,3,4) людей отдельно. Ничего не суммиро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отличие от табл.2130, в строке 4 пишем всех, прошедших санаторное лечение, а не только больных Т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Хирургия (стр.5) тоже люди, а одному человеку можно сделать много операций по поводу разных локализаций, т.е. тоже пишем в каждую строку (6-11) людей, а не опе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мерло в стационаре от туберкулеза из состоявших на учете – это часть из табл.2300 стр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0" y="6070680"/>
            <a:ext cx="9647280" cy="6444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7"/>
          <p:cNvSpPr/>
          <p:nvPr/>
        </p:nvSpPr>
        <p:spPr>
          <a:xfrm>
            <a:off x="825480" y="6478560"/>
            <a:ext cx="41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Заполняют только те, кто использует этот мет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3"/>
          <p:cNvSpPr/>
          <p:nvPr/>
        </p:nvSpPr>
        <p:spPr>
          <a:xfrm>
            <a:off x="250920" y="5538960"/>
            <a:ext cx="874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261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 Кроме того, умерло от туберкулеза в туберкулезном стационаре больных, не состоявших на учете: взрослых  1___подростков 15-17 лет 2_______ детей 0 -14 лет   3_________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полнение к стр.12 табл. 2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81080" y="378000"/>
            <a:ext cx="8638920" cy="42033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/>
          <p:cNvSpPr/>
          <p:nvPr/>
        </p:nvSpPr>
        <p:spPr>
          <a:xfrm>
            <a:off x="179280" y="4508640"/>
            <a:ext cx="8964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лавное – правильно посчитать количество больных из формы прошлого года в строке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первые выявленные больные ТОД  (графы 3,5,6) берутся соответственно из табл.2100 строк 1,4, 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.4 прошлого года, а гр.4 из табл.2500 стр.1  гр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цидивы всего - из табл.2300 стр.1 гр.3 прошлого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цидивы бактериовыделители - из табл.2500 сумма граф 9 и 10 из строки 1 (из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ы и из снятых с учета) прошлого го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ереведено в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руппу (стр8) меньше разницы строк (1-2-3-4–5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179280" y="6165720"/>
            <a:ext cx="8496360" cy="2620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/>
          <p:cNvSpPr/>
          <p:nvPr/>
        </p:nvSpPr>
        <p:spPr>
          <a:xfrm>
            <a:off x="834120" y="6381720"/>
            <a:ext cx="28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  Обычно проблем не возник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0117080" cy="2519280"/>
          </a:xfrm>
          <a:prstGeom prst="rect">
            <a:avLst/>
          </a:prstGeom>
          <a:ln w="0">
            <a:noFill/>
          </a:ln>
        </p:spPr>
      </p:pic>
      <p:sp>
        <p:nvSpPr>
          <p:cNvPr id="155" name="TextBox 2"/>
          <p:cNvSpPr/>
          <p:nvPr/>
        </p:nvSpPr>
        <p:spPr>
          <a:xfrm>
            <a:off x="611280" y="3151080"/>
            <a:ext cx="8246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нные заполняются из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. № 081/у «Медицинская карта больного туберкулёзом», т.к. ф.030-4/у на этих больных не заводи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Часто, после выявления ТБ, при осмотре для поступления на работу, больных туберкулезом высылают из субъекта и дальше про них ничего не известно. Есть субъекты, которые даже не включают их в ф.8, т.к. не заполняют на них ф.089/у, что недопустим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Если больной все-таки лечился в данном учреждении, то его учитывают в строках 3-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Если больной умер во время лечения или без лечения, но диспансеру известно, что болел, то включаем его в строки 6 (всего) и 7(в стационар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нные о смерти из строки 6 включаются в табл.2310 строку1 графы 4-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анные о смерти в стационаре из строки 7 включаются в  табл.2610 строку 1 графы 1-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з раздела 6 «Больничная и санаторная помощ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блемы несогласования данных по туберкулезу в разных отчетных форм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5700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8 и Ф.1 Роспотребнадзора – в/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3 и ф.61 - сочетанная инфекция ВИЧ/ТБ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3 и Росстат - умершие от Т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3 и Росстат – инвалиды по Т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2(роддома) и ф.6 Роспотребнадзора – вакцинированные В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G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новорожденны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30 и ф.33 выявленные ФЛГ и бактериоскопией больные туберкулезо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12 различается кодировка детей из 6 группы учета по 109 приказу (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76.1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и по инструкции к ф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Z03.0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.8 и ф.7ТБ-ФСИН различаются по количеству впервые выявленных больных во ФСИ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полнение данных по профилактическим осмотрам на туберкулез в форм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13880" y="713880"/>
            <a:ext cx="7858440" cy="35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33 табл 2200                          и                              Ф30 табл 25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57120" y="1071720"/>
          <a:ext cx="3929040" cy="2717640"/>
        </p:xfrm>
        <a:graphic>
          <a:graphicData uri="http://schemas.openxmlformats.org/drawingml/2006/table">
            <a:tbl>
              <a:tblPr/>
              <a:tblGrid>
                <a:gridCol w="2419560"/>
                <a:gridCol w="226800"/>
                <a:gridCol w="476280"/>
                <a:gridCol w="428760"/>
                <a:gridCol w="377640"/>
              </a:tblGrid>
              <a:tr h="101880"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0-14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ов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80"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вые выявлено больных туберкулезом из числа осмотренных на туберкуле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именением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инодиагност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45360" rIns="453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аллергена туберкулезного рекомбинантного в стандартном разведен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рограф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0800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логических метод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5360" rIns="45360" tIns="0" bIns="0" anchor="t">
                      <a:noAutofit/>
                    </a:bodyPr>
                    <a:p>
                      <a:pPr marL="1792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методом бактериоскоп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Содержимое 10" descr="2512.jpg"/>
          <p:cNvPicPr/>
          <p:nvPr/>
        </p:nvPicPr>
        <p:blipFill>
          <a:blip r:embed="rId1"/>
          <a:stretch/>
        </p:blipFill>
        <p:spPr>
          <a:xfrm>
            <a:off x="4359240" y="1071720"/>
            <a:ext cx="4326120" cy="35715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1"/>
          <p:cNvSpPr/>
          <p:nvPr/>
        </p:nvSpPr>
        <p:spPr>
          <a:xfrm>
            <a:off x="428760" y="3811680"/>
            <a:ext cx="38574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а строк 2,4,5 должна быть равна строке 1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больной показывается один раз, хотя он может быть обследован разными методами, но указывается только один ведущий метод вы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.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забы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данные стр.3 входят как часть в строку 2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данные стр.6 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онтроли с  ф.3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3=ф30т2512стр1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4=ф30т2512стр(1.1+1.2)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1гр5=ф30т2512стр1.3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(2-3)гр(4+5)=ф30т2512стр4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3гр(4+5)=ф30т2512стр5гр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4гр3=ф30т2512стр2гр5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33 т2200стр6гр3=ф30т2512стр3гр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14880" y="4785840"/>
            <a:ext cx="492912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marL="2192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равнение идет по 5 столбц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ы не все методы выявления и для детей, и для взросл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роке 1 показываются все методы выявления но,                     также как в 33 форме, 1 человек – 1 метод (ведущ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ка 1 больше суммы 2+3+4+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зрослых  стр.1 больше суммы строк  2 и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етей  (1.1+1.2+1.3) больше суммы 4+5+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ка  6 частично входит в строку 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4728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51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019240" y="533520"/>
            <a:ext cx="510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евые осмотры на туберкуле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600" y="944640"/>
          <a:ext cx="9118800" cy="5913360"/>
        </p:xfrm>
        <a:graphic>
          <a:graphicData uri="http://schemas.openxmlformats.org/drawingml/2006/table">
            <a:tbl>
              <a:tblPr/>
              <a:tblGrid>
                <a:gridCol w="3251160"/>
                <a:gridCol w="433440"/>
                <a:gridCol w="749520"/>
                <a:gridCol w="812520"/>
                <a:gridCol w="704880"/>
                <a:gridCol w="1122480"/>
                <a:gridCol w="1290600"/>
                <a:gridCol w="75420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 3 – гр.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 туберкуле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. 5 – гр.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:  1- 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- 14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осмотренных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тр.1)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юорографичес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оскопичес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ных детей (стр.1.1 + 1.2 + 1.3)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ы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диагностика с применением аллергена бактерий с 2 туберкулиновыми единицами очищенного туберкулина в стандартном развед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диагностика с применением аллергена туберкулезного рекомбинантного в стандартном развед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lvl="2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логическое (флюорографическое) исследование органов грудной кле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95" name="Rectangle 485"/>
          <p:cNvSpPr/>
          <p:nvPr/>
        </p:nvSpPr>
        <p:spPr>
          <a:xfrm>
            <a:off x="4800600" y="3657600"/>
            <a:ext cx="3581280" cy="1143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к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е (рав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е строк 2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85"/>
          <p:cNvSpPr/>
          <p:nvPr/>
        </p:nvSpPr>
        <p:spPr>
          <a:xfrm>
            <a:off x="4800600" y="5029200"/>
            <a:ext cx="3581280" cy="13716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а строк 1.1 + 1.2 + 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е строк 4 + 5 +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ицу - пояс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1"/>
          <p:cNvSpPr/>
          <p:nvPr/>
        </p:nvSpPr>
        <p:spPr>
          <a:xfrm>
            <a:off x="228600" y="0"/>
            <a:ext cx="8534520" cy="609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ИМАНИЕ! МЕЖФОРМЕННЫЙ КОНТ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Формой №30-село, Формой  №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85"/>
          <p:cNvSpPr/>
          <p:nvPr/>
        </p:nvSpPr>
        <p:spPr>
          <a:xfrm>
            <a:off x="25560" y="1109520"/>
            <a:ext cx="4572000" cy="76212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дения включ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1 раз в году по основному мет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.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004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ставляется головным ПТУ субъекта РФ, ведущим территориальный регистр (картотеку) больных туберкулезом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только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на основе извещения ф.089у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торое заполняется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на каждого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первые выявленного больного туберкулезом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или рецидив и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присылаетс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в головное ПТУ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медучреждениями любой подчиненност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(Минздрав, ФСИН, ФМБА, МО, ФМС, РЖД, психинтернат, детский дом и т.д. и т.п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50004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142920" y="5357880"/>
            <a:ext cx="8858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Сумма строк 9-10 и 11-12 больше общего числа впервые выявленных бактериовыдел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Сумма по нозологиям внелегочного туберкулеза (стр.17-25) меньше, чем всего (стр.15-16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.к. перечислены не все возможные локализ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Обязательно заполнять строки ФСИН (30-31), иностранцы (28-29), БОМЖ (32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Если больной выявлен посмертно и одновременно он иностранец или из ФСИН, или БОМЖ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о указывать его только один раз в строках 33-34 – посмертное выявл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3712680" y="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блица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6357600" y="4929120"/>
            <a:ext cx="98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Ж                       3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3"/>
          <p:cNvSpPr/>
          <p:nvPr/>
        </p:nvSpPr>
        <p:spPr>
          <a:xfrm>
            <a:off x="3129120" y="404640"/>
            <a:ext cx="29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блица 1000 продол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8070840" cy="10587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285840" y="2060640"/>
            <a:ext cx="860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 Рецидивы (стр.35-36) не включаются в строки 1-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6. Бактериовыделители (стр.37-38) указываются 1 раз, а не так, как у впервые выявлен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6"/>
          <p:cNvSpPr/>
          <p:nvPr/>
        </p:nvSpPr>
        <p:spPr>
          <a:xfrm>
            <a:off x="179280" y="4714920"/>
            <a:ext cx="8786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7. Жители других территорий включают как иностранцев (стр.28-29), так и жителей других субъектов Р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8. При проверке баланса между 8 и 33 формой (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того, как Вы сделаете контроли по МЕДСТАТУ и не получите 0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разница получается за счет больных из МО, ФМБА и других ведомств, имеющих свои тубучрежд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Данные ФМС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 впервые выявленным при освидетельствовании на право работы или проживания в России больным  туберкулезом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обязательно включать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 строки «иностранец» и/или житель другой территор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3129840" y="263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блица 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13"/>
          <p:cNvSpPr/>
          <p:nvPr/>
        </p:nvSpPr>
        <p:spPr>
          <a:xfrm>
            <a:off x="5796000" y="3284640"/>
            <a:ext cx="428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684360" y="3141720"/>
            <a:ext cx="9612000" cy="131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3"/>
          <a:stretch/>
        </p:blipFill>
        <p:spPr>
          <a:xfrm>
            <a:off x="6300720" y="3141720"/>
            <a:ext cx="9612360" cy="13176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ая соединительная линия 17"/>
          <p:cNvSpPr/>
          <p:nvPr/>
        </p:nvSpPr>
        <p:spPr>
          <a:xfrm>
            <a:off x="7596360" y="3284640"/>
            <a:ext cx="4284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1"/>
          <p:cNvSpPr/>
          <p:nvPr/>
        </p:nvSpPr>
        <p:spPr>
          <a:xfrm>
            <a:off x="3129840" y="4076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блица 1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571680" y="4500720"/>
            <a:ext cx="9612000" cy="1317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ая соединительная линия 24"/>
          <p:cNvSpPr/>
          <p:nvPr/>
        </p:nvSpPr>
        <p:spPr>
          <a:xfrm>
            <a:off x="4000680" y="4572000"/>
            <a:ext cx="4284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4"/>
          <p:cNvSpPr/>
          <p:nvPr/>
        </p:nvSpPr>
        <p:spPr>
          <a:xfrm>
            <a:off x="2630160" y="3500280"/>
            <a:ext cx="26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ычно проблем не возник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Типичные ошиб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28400" y="928440"/>
            <a:ext cx="87152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заполнены строки ФС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войной учет посмертно выявле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правильное формирование строк «Иностранные жители» и «Жители других территорий». Не надо бояться увеличения показателя заболеваемости за счет мигрант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пытка подогнать значения строк по выявлению бактериовыделителей среди в/в так, чтобы сумма выявления разными методами равнялась количеству людей-бактериовыдел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ставляется головным ПТУ субъекта РФ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ммированием данных из форм, присланных районными ПТД и другими учреждениями МЗ РФ, имеющими фтизиатрические отделения (кабинеты)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основе «Карты диспансерного наблюдения» ф.030-4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 которой нет сведений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о методе выявления туберкулеза,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жественной лекарственной устойчивости МБТ, сочетанной ТБ-ВИЧ инфекции и прочего.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         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ополнительно используютс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№ 081/у «Медицинская карта больного туберкулёзом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. № 066/у «Статистическая карта выбывшего из стационара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. № 106/у «Врачебное свидетельство о смерти»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ф. № 035/у «Журнал для записи заключений ЦВКК» 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ф. № 04-ТБ/у «Журнал регистрации микроскопических      исследований на туберкулёз»</a:t>
            </a:r>
            <a:br>
              <a:rPr sz="2900"/>
            </a:br>
            <a:br>
              <a:rPr sz="29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4572000" y="285840"/>
            <a:ext cx="714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3419280" y="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.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07:54:17Z</dcterms:created>
  <dc:creator>User</dc:creator>
  <dc:description/>
  <dc:language>en-US</dc:language>
  <cp:lastModifiedBy>ZavOtdel</cp:lastModifiedBy>
  <dcterms:modified xsi:type="dcterms:W3CDTF">2018-12-21T03:50:57Z</dcterms:modified>
  <cp:revision>74</cp:revision>
  <dc:subject/>
  <dc:title>Недочеты при составлении форм ФСН №№ 30,47,12. Сопоставление данных из разных форм с формами №№ 8 и 33</dc:title>
</cp:coreProperties>
</file>