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2674-7364-4164-BAC5-EF56A1642A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E3F7-2196-4EE1-83FF-5C9C5EDECD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45C8-E914-432A-B93D-A2786C3AE8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ED17-8CC2-4E97-95FF-4457E3ED3E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CDCA-5D5F-4785-93B6-F757C0214E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3FD-EFD9-48DB-9472-AB444DE9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80B-6762-4EDB-9DFD-E742E665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473-4730-41B5-A8C3-5CD79A83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E00-8C48-45B8-8E88-22FF5646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C868-4CBC-48C1-8E71-BEA2A89A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D462-1561-4B26-8DA1-33B321D0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BEBD-7970-4481-B4C2-7A8876C3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41D5-ADF9-4996-9AF6-B1767311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FDE8-1229-40B0-965A-1E7C9FD8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D64C-009D-4E26-8265-879D3BDC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1102-3DE8-47CF-B96D-AB7344AF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7F9-9558-411A-B45E-85A8A76C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9937-BCBC-4BD7-8FB6-73A45A6D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2B3D-ABFD-4198-9B30-8F903ACA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649E-8760-41DA-9418-C7108673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0EAD-0652-4F81-9FD5-038DA5A8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A11D-1FD3-4FFF-84A4-5C43EC4B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B92-00AD-4C8C-8D22-4DEC2736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BF9-062B-4D09-BA8D-8AC6F6B8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B15-41C7-4CEE-A813-71A39D45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2AC-2A8B-4D4A-BF18-661D80AD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43F-DCF5-4874-8366-14846619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33D-E522-4531-8049-A9BA1112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A5E-A9E6-40F9-8B20-FD82D685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>
              <a:gd name="textAreaLeft" fmla="*/ 0 w 6629400"/>
              <a:gd name="textAreaRight" fmla="*/ 6629760 w 66294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>
              <a:gd name="textAreaLeft" fmla="*/ 0 w 9037800"/>
              <a:gd name="textAreaRight" fmla="*/ 9038160 w 9037800"/>
              <a:gd name="textAreaTop" fmla="*/ 0 h 1605240"/>
              <a:gd name="textAreaBottom" fmla="*/ 1605600 h 1605240"/>
            </a:gdLst>
            <a:ahLst/>
            <a:rect l="textAreaLeft" t="textAreaTop" r="textAreaRight" b="textAreaBottom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>
                  <a:gd name="textAreaLeft" fmla="*/ 0 w 460440"/>
                  <a:gd name="textAreaRight" fmla="*/ 460800 w 46044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37E7-1214-4F96-B3AF-86A28E78EB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57FF-6F29-4978-BDCD-1C291A5F1B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28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 за 2018 год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76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атьяна Анатольевна Максим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лавный внештатный специалист по проблемам диагностики и лечения ВИЧ – инфекции Минздрава Забайкаль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928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 №61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. Пр. Росстата №672 от 30.12.20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жгодовой контроль 2017/2018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19700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61: таблица 2000 1гр, 04ст отчетного год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е 61 таблицы 1000, 12гр, 19ст предыдущего года + форма 61, 2000, 1гр, ст 05+07+09 отчетного года –форма 61 2000, 1гр, 10 ст отчетно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61: 2000 таблица, 8гр, 04 ст отчетного год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1, 1000, 13гр , 19ст предыдущего года + форма 61, 2000, 8гр, ст 05+07+09 отчетного года – 2000, 8гр, ст10 отчетного 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B898-89C4-45F0-996C-B59B1AF7B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kkib.sibhost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6041-F66A-4424-B2BE-39F5CA116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только тех лиц, которые были обследованы на антитела к ВИЧ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кущем год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дицинских организациях, относящихся к Минздраву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, графа 2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 контроля: строка 1, графа 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=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графе.3 (В20-24) +графе.4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пускается, что сумма граф. 2+3 может быть меньше графа.2 только на число пациентов, выявленных в течение 1-го месяца (декабрь текущего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88C1-AACB-4600-8FB0-2A7D6CD4C9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836640"/>
            <a:ext cx="8300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 1+2, графы. 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. 3100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2, графы.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5+46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 47+4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таб.1000, строки.1+2, графы.5-1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1-4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43-4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ки.49-5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и.51-5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747A-1793-48B7-99CF-E8F56AC8A3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.57- 60, графы.5-15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.57-5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. 59-6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аблицы.3100, строки.1, графы.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5BF6-361D-4961-BCD9-A043CE9C01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и. 1-8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таблицы.3100, строки.1, графы.3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оме посмертных случаев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а. 10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.3100, строки.1, графы.4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рока. 9, графы 5-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выявленные пацие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формируются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ы.1000, строк.57-58, графа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1768-9E51-49FD-9B4B-D2817A1A64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инические стад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8C73-11A0-452B-8453-43FB3C7C03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3000 показываются только те пациенты с ВИЧ-инфекцией,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торые были обслед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отчетном году – 201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DD8B-3E3D-44A9-B03A-3A2F5B6A5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строке 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число пациент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ИЧ-инфекцией с проявлениями Т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ы В20.0, В20.7, В22.7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мерших в отчет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 всех причин, то есть 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ды В20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16A8-191E-4042-B83C-1BDB273B3D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2864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только те пациенты с ВИЧ-инфекцией, которые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и проле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текущем год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201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CA53-2221-483B-9765-672ED7A1A6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Волошина ЛИ; Центр СПИД Чита</dc:creator>
  <dc:description/>
  <dc:language>en-US</dc:language>
  <cp:lastModifiedBy>Миргород</cp:lastModifiedBy>
  <dcterms:modified xsi:type="dcterms:W3CDTF">2018-12-20T05:02:31Z</dcterms:modified>
  <cp:revision>187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