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30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</p:sldIdLst>
  <p:sldSz cx="12193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13"/>
          </p:nvPr>
        </p:nvSpPr>
        <p:spPr>
          <a:xfrm>
            <a:off x="3849840" y="-36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sldImg"/>
          </p:nvPr>
        </p:nvSpPr>
        <p:spPr>
          <a:xfrm>
            <a:off x="422280" y="1240920"/>
            <a:ext cx="5952960" cy="3349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ftr" idx="14"/>
          </p:nvPr>
        </p:nvSpPr>
        <p:spPr>
          <a:xfrm>
            <a:off x="0" y="942768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 type="sldNum" idx="15"/>
          </p:nvPr>
        </p:nvSpPr>
        <p:spPr>
          <a:xfrm>
            <a:off x="3849840" y="942768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1C99CA-F72A-4524-9602-C8A6AD626D7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F32F9E-AD04-4D0E-B74A-AE0A415F5778}" type="slidenum">
              <a:rPr b="0" lang="en-US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6BC77A-B72F-486C-96DB-0C6316406A44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B1F3C3-34AF-4BD2-96AB-DD98FCF4B8B4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74FDC8-8515-4021-B8AD-A50260AE84FD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690FA3-084C-4EC3-A1CA-8A2A4B1E8F0B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48471B-FF86-4DB3-9988-B296C6C5A139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CCC632-6D80-4E2E-B17E-63420BAE8C35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3ECC88-8497-44BE-AFD6-B5D37B86694A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DCFE9D-6A78-4EAB-AED6-FFE3C6DCEB7F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133514-60CA-4F9C-977E-0DBE33F541BE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550233-8E8C-4931-A1C3-BF7EC617F0CD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Slide Number Placeholder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FEF19D-4C70-4157-AF43-E2A8AD7B3C01}" type="slidenum">
              <a:rPr b="0" lang="en-US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95959"/>
                </a:solidFill>
                <a:latin typeface="Calibri"/>
              </a:rPr>
              <a:t>В таблице отражаются сведения о прерывании беременности в срок до 12 недель. В графе 4 показывается общее число прерываний беременности в срок до 12 недель, в графах 5-9 – распределение по возрастам. Графа 4 равна сумме граф 5,6,7,8,9. Из граф 4 выделяются: прерывания беременности у первобеременных (графа 10), у ВИЧ – инфицированных (графа 11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95959"/>
                </a:solidFill>
                <a:latin typeface="Calibri"/>
              </a:rPr>
              <a:t>По срокам 2-6 отражаются: другие аномальные продукты зачатия (строка 2), самопроизвольный аборт (строка 3), медицинский аборт (строка 4), другие виды аборты (криминальный) (строка 5), аборт неуточненный (внебольничный) (строка 6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95959"/>
                </a:solidFill>
                <a:latin typeface="Calibri"/>
              </a:rPr>
              <a:t>Строка 1 равна сумме срок 2-6 по всем графа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95959"/>
                </a:solidFill>
                <a:latin typeface="Calibri"/>
              </a:rPr>
              <a:t>Кроме того, в строках 7-9 отражаются: внематочная беременность (строка 7), пузырный занос (строка 8), неудачная попытка аборта (строка 8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98CAAB-6C7A-44A7-B525-CE5A2E332BF8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8E20-D87B-44D9-99BE-0B6FE9527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731520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68560" y="3538800"/>
            <a:ext cx="731520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58E9-9F62-441D-8875-5B20DC416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761724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68560" y="353880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617240" y="353880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FA47-0693-4293-B2C1-19A300772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341760" y="86364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814960" y="86364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68560" y="353880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6341760" y="353880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8814960" y="353880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B26B-6CB1-427D-B943-8748DCDEF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FDCE1-E7F5-4AAA-A914-9401C73CB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68560" y="863640"/>
            <a:ext cx="7315200" cy="512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5EE62-8BFF-475A-9775-F920A53EA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731520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3A421-E781-4E26-B16B-CE4140004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356976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7617240" y="863640"/>
            <a:ext cx="356976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8D731-C995-48E9-BDF1-5B9F4478B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85281-13DC-4FA0-9985-18985620B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52000" y="4928400"/>
            <a:ext cx="294804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AE4EC-799E-4CDF-B3F7-25800548F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7617240" y="863640"/>
            <a:ext cx="356976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68560" y="353880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4F60D-A7E6-42B5-9A78-053E0806B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68560" y="863640"/>
            <a:ext cx="7315200" cy="512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ACBE-463E-49B8-8CC6-C69502C7E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356976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761724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617240" y="353880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A0072-AD6A-47CE-81C8-BAF812456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61724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68560" y="3538800"/>
            <a:ext cx="731520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98EB2-65A2-48A5-89C3-994416B20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731520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68560" y="3538800"/>
            <a:ext cx="731520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0E478-69EC-45FD-9337-76A1F9E41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761724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68560" y="353880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7617240" y="353880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413E6-D600-4A3E-86FF-16AB95E8D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341760" y="86364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814960" y="86364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68560" y="353880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6341760" y="353880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8814960" y="353880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6E7D8-72AB-43CF-84CA-22CE6C8F6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FD6A72-005F-4BF5-9B78-3B959B778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868560" y="863640"/>
            <a:ext cx="7315200" cy="512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750055-CEB9-4DC3-8EEB-60EAFAB22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731520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20F395-8909-4595-89F3-61CE50A6C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356976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7617240" y="863640"/>
            <a:ext cx="356976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DA400B-E1F9-45C5-B2A6-7C7BFEA7E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C64654-4BEF-431D-8CD5-FB1265F3A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731520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8B81-2749-42D4-9D1A-B506BFDF0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252000" y="4928400"/>
            <a:ext cx="294804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F8D698-4E11-4F02-8C72-2A3AD77EC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7617240" y="863640"/>
            <a:ext cx="356976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3868560" y="353880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DACB63-528E-4501-B190-ECC9D00A6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356976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761724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7617240" y="353880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2C9CFE-B6D3-4542-82A8-2FDE0C7F0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761724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868560" y="3538800"/>
            <a:ext cx="731520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647EBF-D435-4D48-90C4-A4630596C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731520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868560" y="3538800"/>
            <a:ext cx="731520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066E7C-719B-465E-B324-03C617F8A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761724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3868560" y="353880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7617240" y="353880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74B4D4-48B3-45B3-A886-A387415C6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341760" y="86364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8814960" y="86364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3868560" y="353880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6341760" y="353880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8814960" y="353880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98D8C9-F4B4-4D32-84B7-221B6718D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0CBF77-FFF4-4423-8EF9-5C9B186AF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3868560" y="863640"/>
            <a:ext cx="7315200" cy="512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768CC1-E347-44FC-86DF-C9431E251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731520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2CC1E1-1845-47A2-A756-744F1D6F6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356976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7617240" y="863640"/>
            <a:ext cx="356976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6B51-A53B-4FDA-A7B6-17A8EDDE7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356976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7617240" y="863640"/>
            <a:ext cx="356976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A8FD5E-82CF-4824-93F9-6771AA53C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2D0A42-D265-45C7-A17E-827E86A5B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252000" y="4928400"/>
            <a:ext cx="294804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F838D9-23C5-47BB-BC4D-086D5BD9C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7617240" y="863640"/>
            <a:ext cx="356976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3868560" y="353880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1BF16D-E6E1-4FDF-BCAF-C7D55DEDA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356976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761724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7617240" y="353880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434F4B-BDCA-4945-8FC6-0FC67CE49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761724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3868560" y="3538800"/>
            <a:ext cx="731520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BC3688-849A-4BC2-8A55-875102C93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731520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868560" y="3538800"/>
            <a:ext cx="731520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AB99F8-8242-4E9E-8718-5D965428C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761724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3868560" y="353880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7617240" y="353880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D3D05F-9D0C-4AB0-895F-119D1D46B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341760" y="86364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8814960" y="86364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3868560" y="353880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6341760" y="353880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8814960" y="3538800"/>
            <a:ext cx="23551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0DBCBD-1E72-4082-BF1A-6D2EC5BD5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94BD-14C7-4188-95E2-0D8C5139D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52000" y="4928400"/>
            <a:ext cx="294804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5B54-ED61-4AF1-9E6B-4E78761DF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7617240" y="863640"/>
            <a:ext cx="356976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68560" y="353880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63AE-6986-45C6-B7A3-90B6F2D02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356976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761724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617240" y="353880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D914-D0D4-44F3-AF08-7C7F836EC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6856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7617240" y="863640"/>
            <a:ext cx="356976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68560" y="3538800"/>
            <a:ext cx="731520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DA83-5342-4604-B78B-FB55E6710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758880"/>
            <a:ext cx="3443400" cy="5330880"/>
          </a:xfrm>
          <a:prstGeom prst="rect">
            <a:avLst/>
          </a:prstGeom>
          <a:solidFill>
            <a:srgbClr val="40b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" name="Rectangle 37"/>
          <p:cNvSpPr/>
          <p:nvPr/>
        </p:nvSpPr>
        <p:spPr>
          <a:xfrm>
            <a:off x="11815920" y="758880"/>
            <a:ext cx="384120" cy="5330880"/>
          </a:xfrm>
          <a:prstGeom prst="rect">
            <a:avLst/>
          </a:prstGeom>
          <a:solidFill>
            <a:srgbClr val="c8c8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68560" y="863640"/>
            <a:ext cx="731520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1" marL="6858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2" marL="11430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3" marL="16002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4" marL="20574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5" marL="2057400" indent="-182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6" marL="2057400" indent="-182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262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868560" y="6356520"/>
            <a:ext cx="5911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10634400" y="6356520"/>
            <a:ext cx="1530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200" spc="-1" strike="noStrike">
                <a:solidFill>
                  <a:srgbClr val="40bad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EDDC1F-AB44-4214-9CD4-FA98C6A14518}" type="slidenum">
              <a:rPr b="1" lang="en-US" sz="1200" spc="-1" strike="noStrike">
                <a:solidFill>
                  <a:srgbClr val="40bad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6"/>
          <p:cNvSpPr/>
          <p:nvPr/>
        </p:nvSpPr>
        <p:spPr>
          <a:xfrm>
            <a:off x="0" y="762120"/>
            <a:ext cx="9142560" cy="5333760"/>
          </a:xfrm>
          <a:prstGeom prst="rect">
            <a:avLst/>
          </a:prstGeom>
          <a:solidFill>
            <a:srgbClr val="40b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9271080" y="762120"/>
            <a:ext cx="2923920" cy="5333760"/>
          </a:xfrm>
          <a:prstGeom prst="rect">
            <a:avLst/>
          </a:prstGeom>
          <a:solidFill>
            <a:srgbClr val="c8c8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3868560" y="863640"/>
            <a:ext cx="731520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1" marL="6858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2" marL="11430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3" marL="16002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4" marL="20574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5" marL="2057400" indent="-182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6" marL="2057400" indent="-182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262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868560" y="6356520"/>
            <a:ext cx="5911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10634400" y="6356520"/>
            <a:ext cx="1530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200" spc="-1" strike="noStrike">
                <a:solidFill>
                  <a:srgbClr val="40bad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DA9DD1-4359-4A6B-B1E8-26B99481E6A1}" type="slidenum">
              <a:rPr b="1" lang="en-US" sz="1200" spc="-1" strike="noStrike">
                <a:solidFill>
                  <a:srgbClr val="40bad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68560" y="863640"/>
            <a:ext cx="731520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1" marL="6858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2" marL="11430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3" marL="16002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4" marL="20574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5" marL="2057400" indent="-182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6" marL="2057400" indent="-182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262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868560" y="6356520"/>
            <a:ext cx="5911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10634400" y="6356520"/>
            <a:ext cx="1530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200" spc="-1" strike="noStrike">
                <a:solidFill>
                  <a:srgbClr val="40bad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717172-A8AC-4A44-A14C-88E346F6053B}" type="slidenum">
              <a:rPr b="1" lang="en-US" sz="1200" spc="-1" strike="noStrike">
                <a:solidFill>
                  <a:srgbClr val="40bad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6"/>
          <p:cNvSpPr/>
          <p:nvPr/>
        </p:nvSpPr>
        <p:spPr>
          <a:xfrm>
            <a:off x="0" y="758880"/>
            <a:ext cx="3443400" cy="5330880"/>
          </a:xfrm>
          <a:prstGeom prst="rect">
            <a:avLst/>
          </a:prstGeom>
          <a:solidFill>
            <a:srgbClr val="40b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Rectangle 37"/>
          <p:cNvSpPr/>
          <p:nvPr/>
        </p:nvSpPr>
        <p:spPr>
          <a:xfrm>
            <a:off x="11815920" y="758880"/>
            <a:ext cx="384120" cy="5330880"/>
          </a:xfrm>
          <a:prstGeom prst="rect">
            <a:avLst/>
          </a:prstGeom>
          <a:solidFill>
            <a:srgbClr val="c8c8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3868560" y="863640"/>
            <a:ext cx="731520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1" marL="6858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2" marL="11430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3" marL="16002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4" marL="20574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5" marL="2057400" indent="-182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6" marL="2057400" indent="-182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262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498840" y="6356520"/>
            <a:ext cx="5911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10634400" y="6356520"/>
            <a:ext cx="1530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200" spc="-1" strike="noStrike">
                <a:solidFill>
                  <a:srgbClr val="40bad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DC0BF0-EA3C-4378-9F73-E72F70033659}" type="slidenum">
              <a:rPr b="1" lang="en-US" sz="1200" spc="-1" strike="noStrike">
                <a:solidFill>
                  <a:srgbClr val="40bad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69920" y="1850760"/>
            <a:ext cx="7315200" cy="197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300"/>
            </a:br>
            <a:br>
              <a:rPr sz="5300"/>
            </a:br>
            <a:br>
              <a:rPr sz="5300"/>
            </a:br>
            <a:r>
              <a:rPr b="1" lang="ru-RU" sz="5300" spc="-1" strike="noStrike">
                <a:solidFill>
                  <a:srgbClr val="ffffff"/>
                </a:solidFill>
                <a:latin typeface="Corbel"/>
              </a:rPr>
              <a:t>Форма № 13</a:t>
            </a:r>
            <a:br>
              <a:rPr sz="5300"/>
            </a:br>
            <a:r>
              <a:rPr b="1" lang="ru-RU" sz="5300" spc="-1" strike="noStrike">
                <a:solidFill>
                  <a:srgbClr val="ffffff"/>
                </a:solidFill>
                <a:latin typeface="Corbel"/>
              </a:rPr>
              <a:t>«Сведения о беременности с абортивным исходом»</a:t>
            </a:r>
            <a:endParaRPr b="0" lang="en-US" sz="5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3613320" y="3825360"/>
            <a:ext cx="8456400" cy="21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rbel"/>
              </a:rPr>
              <a:t>Т.К. Гребенник </a:t>
            </a:r>
            <a:endParaRPr b="0" lang="en-US" sz="2600" spc="-1" strike="noStrike">
              <a:solidFill>
                <a:srgbClr val="595959"/>
              </a:solidFill>
              <a:latin typeface="Corbel"/>
            </a:endParaRPr>
          </a:p>
          <a:p>
            <a:pPr indent="0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rbel"/>
              </a:rPr>
              <a:t>(</a:t>
            </a:r>
            <a:r>
              <a:rPr b="0" lang="en-US" sz="1900" spc="-1" strike="noStrike">
                <a:solidFill>
                  <a:srgbClr val="000000"/>
                </a:solidFill>
                <a:latin typeface="Corbel"/>
              </a:rPr>
              <a:t>t_grebennik@oparina4.ru)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indent="0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595959"/>
              </a:solidFill>
              <a:latin typeface="Corbel"/>
            </a:endParaRPr>
          </a:p>
          <a:p>
            <a:pPr indent="0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orbel"/>
              </a:rPr>
              <a:t>Заведующий организационно-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indent="0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orbel"/>
              </a:rPr>
              <a:t>методическим отделом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indent="0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1900" spc="-1" strike="noStrike">
                <a:solidFill>
                  <a:srgbClr val="000000"/>
                </a:solidFill>
                <a:latin typeface="Corbel"/>
              </a:rPr>
              <a:t>ФГБУ «НМИЦ АГП им. В.И. Кулакова» МЗ РФ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79" name="Footer Placeholder 17"/>
          <p:cNvSpPr/>
          <p:nvPr/>
        </p:nvSpPr>
        <p:spPr>
          <a:xfrm>
            <a:off x="3868560" y="6356520"/>
            <a:ext cx="5911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100" spc="-1" strike="noStrike">
                <a:solidFill>
                  <a:srgbClr val="1a616f"/>
                </a:solidFill>
                <a:latin typeface="Corbel"/>
              </a:rPr>
              <a:t>12 декабря, 2018 г.</a:t>
            </a: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rbel"/>
              </a:rPr>
              <a:t>Форма № 13 </a:t>
            </a: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Таблицы 1000;2000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Строка 2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522240" y="777960"/>
            <a:ext cx="8161560" cy="128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Другие анормальные продукты зачатия (О02)</a:t>
            </a:r>
            <a:endParaRPr b="0" lang="en-US" sz="36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3385800" y="2923920"/>
            <a:ext cx="7907400" cy="306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8000"/>
          </a:bodyPr>
          <a:p>
            <a:pPr marL="160560" indent="-16056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В данную рубрику входят диагнозы «анэмбриония», «неразвивающаяся беременность».</a:t>
            </a:r>
            <a:endParaRPr b="0" lang="en-US" sz="2800" spc="-1" strike="noStrike">
              <a:solidFill>
                <a:srgbClr val="595959"/>
              </a:solidFill>
              <a:latin typeface="Corbel"/>
            </a:endParaRPr>
          </a:p>
          <a:p>
            <a:pPr marL="160560" indent="-16056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Исключен: бумажный плод</a:t>
            </a:r>
            <a:endParaRPr b="0" lang="en-US" sz="2800" spc="-1" strike="noStrike">
              <a:solidFill>
                <a:srgbClr val="595959"/>
              </a:solidFill>
              <a:latin typeface="Corbel"/>
            </a:endParaRPr>
          </a:p>
          <a:p>
            <a:pPr marL="160560" indent="-16056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При необходимости идентифицировать любое связанное с другими анормальными продуктами зачатия (О02) осложнение используют дополнительный код рубрики (О08)</a:t>
            </a:r>
            <a:endParaRPr b="0" lang="en-US" sz="2800" spc="-1" strike="noStrike">
              <a:solidFill>
                <a:srgbClr val="595959"/>
              </a:solidFill>
              <a:latin typeface="Corbel"/>
            </a:endParaRPr>
          </a:p>
          <a:p>
            <a:pPr marL="160560" indent="-16056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rbel"/>
              </a:rPr>
              <a:t>Форма № 13 </a:t>
            </a: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Таблицы 1000;2000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Строка 3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747960" y="293760"/>
            <a:ext cx="7878960" cy="128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Самопроизвольный </a:t>
            </a:r>
            <a:r>
              <a:rPr b="1" lang="ru-RU" sz="3900" spc="-1" strike="noStrike">
                <a:solidFill>
                  <a:srgbClr val="000000"/>
                </a:solidFill>
                <a:latin typeface="Corbel"/>
              </a:rPr>
              <a:t>аборт</a:t>
            </a: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 (О03)</a:t>
            </a:r>
            <a:endParaRPr b="0" lang="en-US" sz="36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522600" y="1581120"/>
            <a:ext cx="7770960" cy="519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8000"/>
          </a:bodyPr>
          <a:p>
            <a:pPr marL="178560" indent="-178560">
              <a:lnSpc>
                <a:spcPct val="8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Данный код используется, если аборт произошел в стационаре </a:t>
            </a: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самопроизвольно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, т.е. в следующих случаях:</a:t>
            </a:r>
            <a:endParaRPr b="0" lang="en-US" sz="2200" spc="-1" strike="noStrike">
              <a:solidFill>
                <a:srgbClr val="595959"/>
              </a:solidFill>
              <a:latin typeface="Corbel"/>
            </a:endParaRPr>
          </a:p>
          <a:p>
            <a:pPr marL="178560" indent="-178560">
              <a:lnSpc>
                <a:spcPct val="8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- беременная пациентка находилась в стационаре. Аборт самопроизвольно начался и произошел в условиях стационара;</a:t>
            </a:r>
            <a:endParaRPr b="0" lang="en-US" sz="2200" spc="-1" strike="noStrike">
              <a:solidFill>
                <a:srgbClr val="595959"/>
              </a:solidFill>
              <a:latin typeface="Corbel"/>
            </a:endParaRPr>
          </a:p>
          <a:p>
            <a:pPr marL="178560" indent="-178560">
              <a:lnSpc>
                <a:spcPct val="8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- беременная пациентка поступила с диагнозом «начавшийся выкидыш», терапия, направленная на сохранение беременности, не проводилась или была неэффективна, самопроизвольный аборт произошел в условиях стационара;</a:t>
            </a:r>
            <a:endParaRPr b="0" lang="en-US" sz="2200" spc="-1" strike="noStrike">
              <a:solidFill>
                <a:srgbClr val="595959"/>
              </a:solidFill>
              <a:latin typeface="Corbel"/>
            </a:endParaRPr>
          </a:p>
          <a:p>
            <a:pPr marL="178560" indent="-178560">
              <a:lnSpc>
                <a:spcPct val="8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- пациентка поступила с диагнозом «аборт в ходу», аборт произошел в условиях стационара.</a:t>
            </a:r>
            <a:endParaRPr b="0" lang="en-US" sz="2200" spc="-1" strike="noStrike">
              <a:solidFill>
                <a:srgbClr val="595959"/>
              </a:solidFill>
              <a:latin typeface="Corbel"/>
            </a:endParaRPr>
          </a:p>
          <a:p>
            <a:pPr marL="178560" indent="-178560">
              <a:lnSpc>
                <a:spcPct val="8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Если пациентка поступила в стационар после совершившегося самопроизвольного выкидыша вне стационара, случай необходимо указывать в строке 6 (аборт неуточненный)</a:t>
            </a:r>
            <a:endParaRPr b="0" lang="en-US" sz="2200" spc="-1" strike="noStrike">
              <a:solidFill>
                <a:srgbClr val="595959"/>
              </a:solidFill>
              <a:latin typeface="Corbel"/>
            </a:endParaRPr>
          </a:p>
          <a:p>
            <a:pPr marL="178560" indent="-178560">
              <a:lnSpc>
                <a:spcPct val="8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rbel"/>
              </a:rPr>
              <a:t>Форма № 13 </a:t>
            </a: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Таблицы 1000;2000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Строка 4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617640" y="419040"/>
            <a:ext cx="7986600" cy="14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Медицинский аборт (О04)</a:t>
            </a:r>
            <a:endParaRPr b="0" lang="en-US" sz="36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421080" y="576360"/>
            <a:ext cx="8578800" cy="598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Данный код используется, если в стационаре произошло прерывание развивающейся беременности по желанию женщины (Таб. 1000) или по медицинским показаниям, независимо от метода прерывания беременности (инструментальный, консервативный).</a:t>
            </a:r>
            <a:endParaRPr b="0" lang="en-US" sz="24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При сроке беременности более 12 недель прерывание беременности по желанию женщины не проводится</a:t>
            </a:r>
            <a:endParaRPr b="0" lang="en-US" sz="24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Медицинские аборты, проведенные по медицинским показаниям, в том числе медикаментозным методом, показываются в таблице 1101.</a:t>
            </a:r>
            <a:endParaRPr b="0" lang="en-US" sz="2400" spc="-1" strike="noStrike">
              <a:solidFill>
                <a:srgbClr val="595959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rbel"/>
              </a:rPr>
              <a:t>Форма № 13 </a:t>
            </a: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Таблицы 1000;2000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Строка 5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867120" y="867960"/>
            <a:ext cx="7724880" cy="136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Другие виды аборта (</a:t>
            </a: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O05)</a:t>
            </a:r>
            <a:endParaRPr b="0" lang="en-US" sz="36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498840" y="2064960"/>
            <a:ext cx="7794720" cy="392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Данный код используется в случае наличия криминального аборта, независимо от того, на какой его стадии пациентка поступила в стационар (любой аборт, проведенный вне медицинских организаций любой формы собственности).</a:t>
            </a:r>
            <a:endParaRPr b="0" lang="en-US" sz="28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rbel"/>
              </a:rPr>
              <a:t>Форма № 13 </a:t>
            </a: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Таблицы 1000;2000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Строка </a:t>
            </a: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6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866760" y="732960"/>
            <a:ext cx="7682040" cy="132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Аборт неуточненный (</a:t>
            </a: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O0</a:t>
            </a: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6</a:t>
            </a: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)</a:t>
            </a:r>
            <a:endParaRPr b="0" lang="en-US" sz="36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634920" y="1839600"/>
            <a:ext cx="7658280" cy="414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Данный код используется в случае наличия внебольничного аборта, т.е. при поступлении пациентки после свершившегося вне какой-либо медицинской организации («на дому») самопроизвольного аборта.</a:t>
            </a:r>
            <a:endParaRPr b="0" lang="en-US" sz="28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rbel"/>
              </a:rPr>
              <a:t>Форма № 13 </a:t>
            </a: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Таблицы 1000;2000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Строка </a:t>
            </a: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7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866760" y="755280"/>
            <a:ext cx="74264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Внематочная беременность</a:t>
            </a: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 (O0</a:t>
            </a: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0</a:t>
            </a: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)</a:t>
            </a:r>
            <a:endParaRPr b="0" lang="en-US" sz="36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3758760" y="1952640"/>
            <a:ext cx="7534440" cy="403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Включены: О00.0, О00.1, О00.2, О00.8, О00.9 (см. МКБ-10).</a:t>
            </a:r>
            <a:endParaRPr b="0" lang="en-US" sz="28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При  необходимости идентифицировать любое связанное с внематочной беременностью (О00) осложнение используют дополнительный код рубрики О08.</a:t>
            </a:r>
            <a:endParaRPr b="0" lang="en-US" sz="28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rbel"/>
              </a:rPr>
              <a:t>Форма № 13 </a:t>
            </a: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Таблицы 1000;2000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Строка </a:t>
            </a: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8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866760" y="868320"/>
            <a:ext cx="7635960" cy="120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Пузырный занос</a:t>
            </a: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 (O01)</a:t>
            </a:r>
            <a:endParaRPr b="0" lang="en-US" sz="36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690720" y="2162160"/>
            <a:ext cx="7677000" cy="378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Включены: О01.0, О01.1, О01.9. (см. МКБ-10)</a:t>
            </a:r>
            <a:endParaRPr b="0" lang="en-US" sz="28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Исключен: злокачественный пузырный занос (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D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39.2)</a:t>
            </a:r>
            <a:endParaRPr b="0" lang="en-US" sz="28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rbel"/>
              </a:rPr>
              <a:t>Форма № 13 </a:t>
            </a: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Таблицы 1000;2000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Строка </a:t>
            </a: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9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634920" y="2155680"/>
            <a:ext cx="7658280" cy="383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95959"/>
                </a:solidFill>
                <a:latin typeface="Corbel"/>
              </a:rPr>
              <a:t>Данный код используется в случае поступления в медицинскую организацию пациенток с продолжающейся беременностью после проведения попытки аборта в любой медицинской организации.</a:t>
            </a:r>
            <a:endParaRPr b="0" lang="en-US" sz="32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28" name="Объект 2"/>
          <p:cNvSpPr/>
          <p:nvPr/>
        </p:nvSpPr>
        <p:spPr>
          <a:xfrm>
            <a:off x="4064040" y="1020600"/>
            <a:ext cx="7229520" cy="12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Неудачная попытка аборта</a:t>
            </a: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 (</a:t>
            </a: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О07</a:t>
            </a: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rbel"/>
              </a:rPr>
              <a:t>Форма № 13 </a:t>
            </a: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Таблицы 1105;2105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714840" y="2607840"/>
            <a:ext cx="7578720" cy="338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95959"/>
                </a:solidFill>
                <a:latin typeface="Corbel"/>
              </a:rPr>
              <a:t>У любой пациентки в рамках одной госпитализации может иметь место несколько осложнений беременности с абортивным исходом</a:t>
            </a:r>
            <a:endParaRPr b="0" lang="en-US" sz="32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31" name="Объект 2"/>
          <p:cNvSpPr/>
          <p:nvPr/>
        </p:nvSpPr>
        <p:spPr>
          <a:xfrm>
            <a:off x="4064040" y="1020600"/>
            <a:ext cx="762012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Осложнения, вызванные абортом </a:t>
            </a: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(</a:t>
            </a: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О08</a:t>
            </a: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rbel"/>
              </a:rPr>
              <a:t>Форма № 13 </a:t>
            </a: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Таблица 3000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758760" y="2760840"/>
            <a:ext cx="7613640" cy="394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9000"/>
          </a:bodyPr>
          <a:p>
            <a:pPr marL="180360" indent="-180360">
              <a:lnSpc>
                <a:spcPct val="7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95959"/>
              </a:solidFill>
              <a:latin typeface="Corbel"/>
            </a:endParaRPr>
          </a:p>
          <a:p>
            <a:pPr marL="180360" indent="-180360">
              <a:lnSpc>
                <a:spcPct val="7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 графе 1 указывается число женщин, умерших от прерывания беременности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(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02- О06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)</a:t>
            </a:r>
            <a:endParaRPr b="0" lang="en-US" sz="3200" spc="-1" strike="noStrike">
              <a:solidFill>
                <a:srgbClr val="595959"/>
              </a:solidFill>
              <a:latin typeface="Corbel"/>
            </a:endParaRPr>
          </a:p>
          <a:p>
            <a:pPr marL="180360" indent="-180360">
              <a:lnSpc>
                <a:spcPct val="7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Из них в графе 2 – в сроки до 12 недель</a:t>
            </a:r>
            <a:endParaRPr b="0" lang="en-US" sz="3200" spc="-1" strike="noStrike">
              <a:solidFill>
                <a:srgbClr val="595959"/>
              </a:solidFill>
              <a:latin typeface="Corbel"/>
            </a:endParaRPr>
          </a:p>
          <a:p>
            <a:pPr marL="180360" indent="-180360">
              <a:lnSpc>
                <a:spcPct val="7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Из них в графе 3 – в сроки 12-22 недели</a:t>
            </a:r>
            <a:endParaRPr b="0" lang="en-US" sz="3200" spc="-1" strike="noStrike">
              <a:solidFill>
                <a:srgbClr val="595959"/>
              </a:solidFill>
              <a:latin typeface="Corbel"/>
            </a:endParaRPr>
          </a:p>
          <a:p>
            <a:pPr marL="180360" indent="-180360">
              <a:lnSpc>
                <a:spcPct val="7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Число в графе 1 должно равняться сумме граф 2 и 3 этой таблицы</a:t>
            </a:r>
            <a:endParaRPr b="0" lang="en-US" sz="3200" spc="-1" strike="noStrike">
              <a:solidFill>
                <a:srgbClr val="595959"/>
              </a:solidFill>
              <a:latin typeface="Corbel"/>
            </a:endParaRPr>
          </a:p>
          <a:p>
            <a:pPr marL="180360" indent="-180360">
              <a:lnSpc>
                <a:spcPct val="7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orbel"/>
            </a:endParaRPr>
          </a:p>
          <a:p>
            <a:pPr marL="180360" indent="-180360">
              <a:lnSpc>
                <a:spcPct val="7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marL="180360" indent="-180360">
              <a:lnSpc>
                <a:spcPct val="7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95959"/>
              </a:solidFill>
              <a:latin typeface="Corbel"/>
            </a:endParaRPr>
          </a:p>
          <a:p>
            <a:pPr marL="180360" indent="-180360">
              <a:lnSpc>
                <a:spcPct val="7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95959"/>
              </a:solidFill>
              <a:latin typeface="Corbel"/>
            </a:endParaRPr>
          </a:p>
          <a:p>
            <a:pPr marL="180360" indent="-180360">
              <a:lnSpc>
                <a:spcPct val="7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34" name="Объект 2"/>
          <p:cNvSpPr/>
          <p:nvPr/>
        </p:nvSpPr>
        <p:spPr>
          <a:xfrm>
            <a:off x="4064040" y="496800"/>
            <a:ext cx="7461360" cy="13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Число женщин, умерших от прерывания беременности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(</a:t>
            </a: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О02- О06</a:t>
            </a: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Форма № 13 - «Сведения о беременности с абортивным исходом»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868560" y="863640"/>
            <a:ext cx="7315200" cy="512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ИСТЕРСТВО ЭКОНОМИЧЕСКОГО РАЗВИТИЯ РОССИЙСКОЙ ФЕДЕРАЦИИ </a:t>
            </a:r>
            <a:endParaRPr b="0" lang="en-US" sz="1400" spc="-1" strike="noStrike">
              <a:solidFill>
                <a:srgbClr val="595959"/>
              </a:solidFill>
              <a:latin typeface="Corbel"/>
            </a:endParaRPr>
          </a:p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НАЯ СЛУЖБА ГОСУДАРСТВЕННОЙ СТАТИСТИКИ </a:t>
            </a:r>
            <a:endParaRPr b="0" lang="en-US" sz="1400" spc="-1" strike="noStrike">
              <a:solidFill>
                <a:srgbClr val="595959"/>
              </a:solidFill>
              <a:latin typeface="Corbel"/>
            </a:endParaRPr>
          </a:p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95959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</a:t>
            </a:r>
            <a:endParaRPr b="0" lang="en-US" sz="1800" spc="-1" strike="noStrike">
              <a:solidFill>
                <a:srgbClr val="595959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22 декабря 2017 г. № 861</a:t>
            </a:r>
            <a:endParaRPr b="0" lang="en-US" sz="1800" spc="-1" strike="noStrike">
              <a:solidFill>
                <a:srgbClr val="595959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Corbel"/>
            </a:endParaRPr>
          </a:p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 УТВЕРЖДЕНИИ СТАТИСТИЧЕСКОГО ИНСТРУМЕНТАРИЯ ДЛЯ ОРГАНИЗАЦИИ МИНИСТЕРСТВОМ ЗДРАВООХРАНЕНИЯ РОССИЙСКОЙ ФЕДЕРАЦИИ ФЕДЕРАЛЬНОГО СТАТИСТИЧЕСКОГО НАБЛЮДЕНИЯ В СФЕРЕ ЗДРАВООХРАНЕНИЯ</a:t>
            </a:r>
            <a:endParaRPr b="0" lang="en-US" sz="1800" spc="-1" strike="noStrike">
              <a:solidFill>
                <a:srgbClr val="595959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13т1000с4г4 = ф13т1100г1+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13т1101г1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866760" y="868320"/>
            <a:ext cx="3475080" cy="512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Corbel"/>
              </a:rPr>
              <a:t> 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pic>
        <p:nvPicPr>
          <p:cNvPr id="237" name="Объект 2" descr=""/>
          <p:cNvPicPr/>
          <p:nvPr/>
        </p:nvPicPr>
        <p:blipFill>
          <a:blip r:embed="rId1"/>
          <a:stretch/>
        </p:blipFill>
        <p:spPr>
          <a:xfrm>
            <a:off x="3565440" y="901800"/>
            <a:ext cx="7726320" cy="4902120"/>
          </a:xfrm>
          <a:prstGeom prst="rect">
            <a:avLst/>
          </a:prstGeom>
          <a:ln w="0">
            <a:noFill/>
          </a:ln>
        </p:spPr>
      </p:pic>
      <p:sp>
        <p:nvSpPr>
          <p:cNvPr id="238" name="Овал 10"/>
          <p:cNvSpPr/>
          <p:nvPr/>
        </p:nvSpPr>
        <p:spPr>
          <a:xfrm>
            <a:off x="6861240" y="2438280"/>
            <a:ext cx="755640" cy="271440"/>
          </a:xfrm>
          <a:prstGeom prst="ellipse">
            <a:avLst/>
          </a:prstGeom>
          <a:solidFill>
            <a:srgbClr val="ff0000"/>
          </a:solidFill>
          <a:ln w="108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Овал 13"/>
          <p:cNvSpPr/>
          <p:nvPr/>
        </p:nvSpPr>
        <p:spPr>
          <a:xfrm>
            <a:off x="6491160" y="3882960"/>
            <a:ext cx="936720" cy="384120"/>
          </a:xfrm>
          <a:prstGeom prst="ellipse">
            <a:avLst/>
          </a:prstGeom>
          <a:noFill/>
          <a:ln w="28440">
            <a:solidFill>
              <a:srgbClr val="d539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Овал 15"/>
          <p:cNvSpPr/>
          <p:nvPr/>
        </p:nvSpPr>
        <p:spPr>
          <a:xfrm flipH="1">
            <a:off x="7891560" y="4267080"/>
            <a:ext cx="823680" cy="384120"/>
          </a:xfrm>
          <a:prstGeom prst="ellipse">
            <a:avLst/>
          </a:prstGeom>
          <a:noFill/>
          <a:ln w="28440">
            <a:solidFill>
              <a:srgbClr val="d539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339084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13т1000с4г5 =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13т1100г3+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13т1101г3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66760" y="868320"/>
            <a:ext cx="3475080" cy="512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Corbel"/>
              </a:rPr>
              <a:t> 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pic>
        <p:nvPicPr>
          <p:cNvPr id="243" name="Объект 2" descr=""/>
          <p:cNvPicPr/>
          <p:nvPr/>
        </p:nvPicPr>
        <p:blipFill>
          <a:blip r:embed="rId1"/>
          <a:stretch/>
        </p:blipFill>
        <p:spPr>
          <a:xfrm>
            <a:off x="3643200" y="912960"/>
            <a:ext cx="7726320" cy="4902120"/>
          </a:xfrm>
          <a:prstGeom prst="rect">
            <a:avLst/>
          </a:prstGeom>
          <a:ln w="0">
            <a:noFill/>
          </a:ln>
        </p:spPr>
      </p:pic>
      <p:sp>
        <p:nvSpPr>
          <p:cNvPr id="244" name="Овал 10"/>
          <p:cNvSpPr/>
          <p:nvPr/>
        </p:nvSpPr>
        <p:spPr>
          <a:xfrm>
            <a:off x="7427880" y="2449440"/>
            <a:ext cx="755640" cy="270000"/>
          </a:xfrm>
          <a:prstGeom prst="ellipse">
            <a:avLst/>
          </a:prstGeom>
          <a:solidFill>
            <a:srgbClr val="ff0000"/>
          </a:solidFill>
          <a:ln w="108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5" name="Овал 13"/>
          <p:cNvSpPr/>
          <p:nvPr/>
        </p:nvSpPr>
        <p:spPr>
          <a:xfrm>
            <a:off x="7097760" y="4052880"/>
            <a:ext cx="936720" cy="384120"/>
          </a:xfrm>
          <a:prstGeom prst="ellipse">
            <a:avLst/>
          </a:prstGeom>
          <a:noFill/>
          <a:ln w="28440">
            <a:solidFill>
              <a:srgbClr val="d539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6" name="Овал 15"/>
          <p:cNvSpPr/>
          <p:nvPr/>
        </p:nvSpPr>
        <p:spPr>
          <a:xfrm flipH="1">
            <a:off x="8876520" y="4437000"/>
            <a:ext cx="825480" cy="382680"/>
          </a:xfrm>
          <a:prstGeom prst="ellipse">
            <a:avLst/>
          </a:prstGeom>
          <a:noFill/>
          <a:ln w="28440">
            <a:solidFill>
              <a:srgbClr val="d539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339084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13т1000с4г6 =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13т1100г4+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13т1101г4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866760" y="868320"/>
            <a:ext cx="3475080" cy="512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Corbel"/>
              </a:rPr>
              <a:t> 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pic>
        <p:nvPicPr>
          <p:cNvPr id="249" name="Объект 2" descr=""/>
          <p:cNvPicPr/>
          <p:nvPr/>
        </p:nvPicPr>
        <p:blipFill>
          <a:blip r:embed="rId1"/>
          <a:stretch/>
        </p:blipFill>
        <p:spPr>
          <a:xfrm>
            <a:off x="3643200" y="912960"/>
            <a:ext cx="7726320" cy="4902120"/>
          </a:xfrm>
          <a:prstGeom prst="rect">
            <a:avLst/>
          </a:prstGeom>
          <a:ln w="0">
            <a:noFill/>
          </a:ln>
        </p:spPr>
      </p:pic>
      <p:sp>
        <p:nvSpPr>
          <p:cNvPr id="250" name="Овал 10"/>
          <p:cNvSpPr/>
          <p:nvPr/>
        </p:nvSpPr>
        <p:spPr>
          <a:xfrm>
            <a:off x="8034480" y="2401920"/>
            <a:ext cx="755640" cy="271440"/>
          </a:xfrm>
          <a:prstGeom prst="ellipse">
            <a:avLst/>
          </a:prstGeom>
          <a:solidFill>
            <a:srgbClr val="ff0000"/>
          </a:solidFill>
          <a:ln w="108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Овал 13"/>
          <p:cNvSpPr/>
          <p:nvPr/>
        </p:nvSpPr>
        <p:spPr>
          <a:xfrm>
            <a:off x="8418600" y="4030560"/>
            <a:ext cx="938160" cy="382680"/>
          </a:xfrm>
          <a:prstGeom prst="ellipse">
            <a:avLst/>
          </a:prstGeom>
          <a:noFill/>
          <a:ln w="28440">
            <a:solidFill>
              <a:srgbClr val="d539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Овал 15"/>
          <p:cNvSpPr/>
          <p:nvPr/>
        </p:nvSpPr>
        <p:spPr>
          <a:xfrm flipH="1">
            <a:off x="10119600" y="4413240"/>
            <a:ext cx="824040" cy="384120"/>
          </a:xfrm>
          <a:prstGeom prst="ellipse">
            <a:avLst/>
          </a:prstGeom>
          <a:noFill/>
          <a:ln w="28440">
            <a:solidFill>
              <a:srgbClr val="d539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307836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ведения о прерывании беременности в возрастной группе до 14 лет (строка 1 графа 5 таблица 1000) необходимо указать число первобеременных (графа 1) – число в этой графе должно быть меньше, чем в строке 1 графе 5 и строке 1 графе 10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866760" y="868320"/>
            <a:ext cx="3475080" cy="512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Corbel"/>
              </a:rPr>
              <a:t> 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pic>
        <p:nvPicPr>
          <p:cNvPr id="255" name="Объект 2" descr=""/>
          <p:cNvPicPr/>
          <p:nvPr/>
        </p:nvPicPr>
        <p:blipFill>
          <a:blip r:embed="rId1"/>
          <a:stretch/>
        </p:blipFill>
        <p:spPr>
          <a:xfrm>
            <a:off x="3643200" y="973080"/>
            <a:ext cx="7726320" cy="4902120"/>
          </a:xfrm>
          <a:prstGeom prst="rect">
            <a:avLst/>
          </a:prstGeom>
          <a:ln w="0">
            <a:noFill/>
          </a:ln>
        </p:spPr>
      </p:pic>
      <p:sp>
        <p:nvSpPr>
          <p:cNvPr id="256" name="Овал 10"/>
          <p:cNvSpPr/>
          <p:nvPr/>
        </p:nvSpPr>
        <p:spPr>
          <a:xfrm>
            <a:off x="8805960" y="4906800"/>
            <a:ext cx="787320" cy="263520"/>
          </a:xfrm>
          <a:prstGeom prst="ellipse">
            <a:avLst/>
          </a:prstGeom>
          <a:solidFill>
            <a:srgbClr val="ff0000"/>
          </a:solidFill>
          <a:ln w="108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Овал 13"/>
          <p:cNvSpPr/>
          <p:nvPr/>
        </p:nvSpPr>
        <p:spPr>
          <a:xfrm>
            <a:off x="7407360" y="1792440"/>
            <a:ext cx="811080" cy="384120"/>
          </a:xfrm>
          <a:prstGeom prst="ellipse">
            <a:avLst/>
          </a:prstGeom>
          <a:noFill/>
          <a:ln w="28440">
            <a:solidFill>
              <a:srgbClr val="d539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Овал 15"/>
          <p:cNvSpPr/>
          <p:nvPr/>
        </p:nvSpPr>
        <p:spPr>
          <a:xfrm flipH="1">
            <a:off x="9906120" y="1792440"/>
            <a:ext cx="823680" cy="384120"/>
          </a:xfrm>
          <a:prstGeom prst="ellipse">
            <a:avLst/>
          </a:prstGeom>
          <a:noFill/>
          <a:ln w="28440">
            <a:solidFill>
              <a:srgbClr val="d539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52360" y="1123560"/>
            <a:ext cx="314496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число ВИЧ инфицированных среди возрастной группы до 14 лет  (графа 2) – число в этой графе должно быть меньше, чем в строке 1 графе 5 и строке 1 графе 11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866760" y="868320"/>
            <a:ext cx="3475080" cy="512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Corbel"/>
              </a:rPr>
              <a:t> 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pic>
        <p:nvPicPr>
          <p:cNvPr id="261" name="Объект 2" descr=""/>
          <p:cNvPicPr/>
          <p:nvPr/>
        </p:nvPicPr>
        <p:blipFill>
          <a:blip r:embed="rId1"/>
          <a:stretch/>
        </p:blipFill>
        <p:spPr>
          <a:xfrm>
            <a:off x="3643200" y="973080"/>
            <a:ext cx="7726320" cy="4902120"/>
          </a:xfrm>
          <a:prstGeom prst="rect">
            <a:avLst/>
          </a:prstGeom>
          <a:ln w="0">
            <a:noFill/>
          </a:ln>
        </p:spPr>
      </p:pic>
      <p:sp>
        <p:nvSpPr>
          <p:cNvPr id="262" name="Овал 10"/>
          <p:cNvSpPr/>
          <p:nvPr/>
        </p:nvSpPr>
        <p:spPr>
          <a:xfrm>
            <a:off x="10334520" y="4917960"/>
            <a:ext cx="789120" cy="263520"/>
          </a:xfrm>
          <a:prstGeom prst="ellipse">
            <a:avLst/>
          </a:prstGeom>
          <a:solidFill>
            <a:srgbClr val="ff0000"/>
          </a:solidFill>
          <a:ln w="108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Овал 13"/>
          <p:cNvSpPr/>
          <p:nvPr/>
        </p:nvSpPr>
        <p:spPr>
          <a:xfrm>
            <a:off x="7407360" y="1792440"/>
            <a:ext cx="811080" cy="384120"/>
          </a:xfrm>
          <a:prstGeom prst="ellipse">
            <a:avLst/>
          </a:prstGeom>
          <a:noFill/>
          <a:ln w="28440">
            <a:solidFill>
              <a:srgbClr val="d539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Овал 15"/>
          <p:cNvSpPr/>
          <p:nvPr/>
        </p:nvSpPr>
        <p:spPr>
          <a:xfrm flipH="1">
            <a:off x="10425240" y="1792440"/>
            <a:ext cx="823680" cy="384120"/>
          </a:xfrm>
          <a:prstGeom prst="ellipse">
            <a:avLst/>
          </a:prstGeom>
          <a:noFill/>
          <a:ln w="28440">
            <a:solidFill>
              <a:srgbClr val="d539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307836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3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ведения о прерывании беременности в возрастной группе 15-17 лет (строка 1 графа 6 таблица 1000) необходимо указать число первобеременных (графа 1) – число в этой графе должно быть меньше, чем в строке 1 графе 6 и строке 1 графе 10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866760" y="868320"/>
            <a:ext cx="3475080" cy="512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Corbel"/>
              </a:rPr>
              <a:t> 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pic>
        <p:nvPicPr>
          <p:cNvPr id="267" name="Объект 2" descr=""/>
          <p:cNvPicPr/>
          <p:nvPr/>
        </p:nvPicPr>
        <p:blipFill>
          <a:blip r:embed="rId1"/>
          <a:stretch/>
        </p:blipFill>
        <p:spPr>
          <a:xfrm>
            <a:off x="3643200" y="973080"/>
            <a:ext cx="7726320" cy="4902120"/>
          </a:xfrm>
          <a:prstGeom prst="rect">
            <a:avLst/>
          </a:prstGeom>
          <a:ln w="0">
            <a:noFill/>
          </a:ln>
        </p:spPr>
      </p:pic>
      <p:sp>
        <p:nvSpPr>
          <p:cNvPr id="268" name="Овал 10"/>
          <p:cNvSpPr/>
          <p:nvPr/>
        </p:nvSpPr>
        <p:spPr>
          <a:xfrm>
            <a:off x="8805960" y="5291280"/>
            <a:ext cx="787320" cy="263520"/>
          </a:xfrm>
          <a:prstGeom prst="ellipse">
            <a:avLst/>
          </a:prstGeom>
          <a:solidFill>
            <a:srgbClr val="ff0000"/>
          </a:solidFill>
          <a:ln w="108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Овал 13"/>
          <p:cNvSpPr/>
          <p:nvPr/>
        </p:nvSpPr>
        <p:spPr>
          <a:xfrm>
            <a:off x="7994520" y="1792440"/>
            <a:ext cx="811440" cy="384120"/>
          </a:xfrm>
          <a:prstGeom prst="ellipse">
            <a:avLst/>
          </a:prstGeom>
          <a:noFill/>
          <a:ln w="28440">
            <a:solidFill>
              <a:srgbClr val="d539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Овал 15"/>
          <p:cNvSpPr/>
          <p:nvPr/>
        </p:nvSpPr>
        <p:spPr>
          <a:xfrm flipH="1">
            <a:off x="9906120" y="1792440"/>
            <a:ext cx="823680" cy="384120"/>
          </a:xfrm>
          <a:prstGeom prst="ellipse">
            <a:avLst/>
          </a:prstGeom>
          <a:noFill/>
          <a:ln w="28440">
            <a:solidFill>
              <a:srgbClr val="d539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323388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3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число ВИЧ инфицированных среди возрастной группы 15-17лет  (графа 2) – число в этой графе должно быть меньше, чем в строке 1 графе 6 и строке 1 графе 11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866760" y="868320"/>
            <a:ext cx="3475080" cy="512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Corbel"/>
              </a:rPr>
              <a:t> 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pic>
        <p:nvPicPr>
          <p:cNvPr id="273" name="Объект 2" descr=""/>
          <p:cNvPicPr/>
          <p:nvPr/>
        </p:nvPicPr>
        <p:blipFill>
          <a:blip r:embed="rId1"/>
          <a:stretch/>
        </p:blipFill>
        <p:spPr>
          <a:xfrm>
            <a:off x="3643200" y="973080"/>
            <a:ext cx="7726320" cy="4902120"/>
          </a:xfrm>
          <a:prstGeom prst="rect">
            <a:avLst/>
          </a:prstGeom>
          <a:ln w="0">
            <a:noFill/>
          </a:ln>
        </p:spPr>
      </p:pic>
      <p:sp>
        <p:nvSpPr>
          <p:cNvPr id="274" name="Овал 10"/>
          <p:cNvSpPr/>
          <p:nvPr/>
        </p:nvSpPr>
        <p:spPr>
          <a:xfrm>
            <a:off x="10425240" y="5261040"/>
            <a:ext cx="787320" cy="293760"/>
          </a:xfrm>
          <a:prstGeom prst="ellipse">
            <a:avLst/>
          </a:prstGeom>
          <a:solidFill>
            <a:srgbClr val="ff0000"/>
          </a:solidFill>
          <a:ln w="108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5" name="Овал 13"/>
          <p:cNvSpPr/>
          <p:nvPr/>
        </p:nvSpPr>
        <p:spPr>
          <a:xfrm>
            <a:off x="8026560" y="1792440"/>
            <a:ext cx="688680" cy="384120"/>
          </a:xfrm>
          <a:prstGeom prst="ellipse">
            <a:avLst/>
          </a:prstGeom>
          <a:noFill/>
          <a:ln w="28440">
            <a:solidFill>
              <a:srgbClr val="d539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Овал 15"/>
          <p:cNvSpPr/>
          <p:nvPr/>
        </p:nvSpPr>
        <p:spPr>
          <a:xfrm flipH="1">
            <a:off x="10424520" y="1792440"/>
            <a:ext cx="649080" cy="384120"/>
          </a:xfrm>
          <a:prstGeom prst="ellipse">
            <a:avLst/>
          </a:prstGeom>
          <a:noFill/>
          <a:ln w="28440">
            <a:solidFill>
              <a:srgbClr val="d539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252360" y="868320"/>
            <a:ext cx="3162240" cy="512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00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казывать число абортов, проведенных по социальным показаниям (независимо от метода). Число в т2100г1 должно быть не больше числа в т2000с4г4, число в т2100г2 тоже должно быть не больше числа в т2000с4г4 и меньше числа в т2100г1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а 3 т2100 – аборты до 14 лет вкл. только по медицинским показаниям!!!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а 4 таблицы 2100 не более числа из т2000с4г6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2101г1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более числа в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2000с4г4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866760" y="868320"/>
            <a:ext cx="3475080" cy="512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Corbel"/>
              </a:rPr>
              <a:t> 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79" name="Овал 10"/>
          <p:cNvSpPr/>
          <p:nvPr/>
        </p:nvSpPr>
        <p:spPr>
          <a:xfrm>
            <a:off x="10425240" y="5291280"/>
            <a:ext cx="787320" cy="263520"/>
          </a:xfrm>
          <a:prstGeom prst="ellipse">
            <a:avLst/>
          </a:prstGeom>
          <a:solidFill>
            <a:srgbClr val="ff0000"/>
          </a:solidFill>
          <a:ln w="108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0" name="Овал 13"/>
          <p:cNvSpPr/>
          <p:nvPr/>
        </p:nvSpPr>
        <p:spPr>
          <a:xfrm>
            <a:off x="8026560" y="1792440"/>
            <a:ext cx="688680" cy="384120"/>
          </a:xfrm>
          <a:prstGeom prst="ellipse">
            <a:avLst/>
          </a:prstGeom>
          <a:noFill/>
          <a:ln w="28440">
            <a:solidFill>
              <a:srgbClr val="d539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Овал 15"/>
          <p:cNvSpPr/>
          <p:nvPr/>
        </p:nvSpPr>
        <p:spPr>
          <a:xfrm flipH="1">
            <a:off x="10425240" y="1792440"/>
            <a:ext cx="823680" cy="384120"/>
          </a:xfrm>
          <a:prstGeom prst="ellipse">
            <a:avLst/>
          </a:prstGeom>
          <a:noFill/>
          <a:ln w="28440">
            <a:solidFill>
              <a:srgbClr val="d539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82" name="Объект 3" descr=""/>
          <p:cNvPicPr/>
          <p:nvPr/>
        </p:nvPicPr>
        <p:blipFill>
          <a:blip r:embed="rId1"/>
          <a:stretch/>
        </p:blipFill>
        <p:spPr>
          <a:xfrm>
            <a:off x="3643200" y="849240"/>
            <a:ext cx="8548920" cy="5121360"/>
          </a:xfrm>
          <a:prstGeom prst="rect">
            <a:avLst/>
          </a:prstGeom>
          <a:ln w="0">
            <a:noFill/>
          </a:ln>
        </p:spPr>
      </p:pic>
      <p:sp>
        <p:nvSpPr>
          <p:cNvPr id="283" name="Овал 9"/>
          <p:cNvSpPr/>
          <p:nvPr/>
        </p:nvSpPr>
        <p:spPr>
          <a:xfrm>
            <a:off x="8207280" y="4336920"/>
            <a:ext cx="820800" cy="298440"/>
          </a:xfrm>
          <a:prstGeom prst="ellipse">
            <a:avLst/>
          </a:prstGeom>
          <a:solidFill>
            <a:srgbClr val="ff0000"/>
          </a:solidFill>
          <a:ln w="108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4" name="Овал 11"/>
          <p:cNvSpPr/>
          <p:nvPr/>
        </p:nvSpPr>
        <p:spPr>
          <a:xfrm flipH="1">
            <a:off x="7093800" y="2448000"/>
            <a:ext cx="824040" cy="384120"/>
          </a:xfrm>
          <a:prstGeom prst="ellipse">
            <a:avLst/>
          </a:prstGeom>
          <a:noFill/>
          <a:ln w="28440">
            <a:solidFill>
              <a:srgbClr val="d539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5" name="Овал 12"/>
          <p:cNvSpPr/>
          <p:nvPr/>
        </p:nvSpPr>
        <p:spPr>
          <a:xfrm>
            <a:off x="10733040" y="4437000"/>
            <a:ext cx="822240" cy="298440"/>
          </a:xfrm>
          <a:prstGeom prst="ellipse">
            <a:avLst/>
          </a:prstGeom>
          <a:solidFill>
            <a:srgbClr val="2791a6"/>
          </a:solidFill>
          <a:ln w="108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Овал 14"/>
          <p:cNvSpPr/>
          <p:nvPr/>
        </p:nvSpPr>
        <p:spPr>
          <a:xfrm flipH="1">
            <a:off x="7201800" y="2448000"/>
            <a:ext cx="824040" cy="384120"/>
          </a:xfrm>
          <a:prstGeom prst="ellipse">
            <a:avLst/>
          </a:prstGeom>
          <a:noFill/>
          <a:ln w="28440">
            <a:solidFill>
              <a:srgbClr val="2791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Овал 18"/>
          <p:cNvSpPr/>
          <p:nvPr/>
        </p:nvSpPr>
        <p:spPr>
          <a:xfrm>
            <a:off x="9469440" y="4586400"/>
            <a:ext cx="822240" cy="298440"/>
          </a:xfrm>
          <a:prstGeom prst="ellipse">
            <a:avLst/>
          </a:prstGeom>
          <a:solidFill>
            <a:srgbClr val="7030a0"/>
          </a:solidFill>
          <a:ln w="108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Овал 19"/>
          <p:cNvSpPr/>
          <p:nvPr/>
        </p:nvSpPr>
        <p:spPr>
          <a:xfrm flipH="1">
            <a:off x="8133480" y="2457360"/>
            <a:ext cx="908280" cy="317520"/>
          </a:xfrm>
          <a:prstGeom prst="ellipse">
            <a:avLst/>
          </a:prstGeom>
          <a:noFill/>
          <a:ln w="284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9" name="Овал 20"/>
          <p:cNvSpPr/>
          <p:nvPr/>
        </p:nvSpPr>
        <p:spPr>
          <a:xfrm>
            <a:off x="8304120" y="4992840"/>
            <a:ext cx="822240" cy="298440"/>
          </a:xfrm>
          <a:prstGeom prst="ellipse">
            <a:avLst/>
          </a:prstGeom>
          <a:solidFill>
            <a:srgbClr val="92d050"/>
          </a:solidFill>
          <a:ln w="108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Овал 21"/>
          <p:cNvSpPr/>
          <p:nvPr/>
        </p:nvSpPr>
        <p:spPr>
          <a:xfrm flipH="1">
            <a:off x="7012080" y="2481120"/>
            <a:ext cx="907920" cy="317520"/>
          </a:xfrm>
          <a:prstGeom prst="ellipse">
            <a:avLst/>
          </a:prstGeom>
          <a:noFill/>
          <a:ln w="2844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,1000,1,04+13,2000,1,04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=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,4000,146,03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3868560" y="863640"/>
            <a:ext cx="7315200" cy="512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3000"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rbel"/>
              </a:rPr>
              <a:t>Межформенный контроль </a:t>
            </a:r>
            <a:endParaRPr b="0" lang="en-US" sz="36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Следует проводить с отчетной 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формой № 14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«Сведения о деятельности подразделений медицинской организации, оказывающих медицинскую помощь в 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стационарных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условиях»:  таблица 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4 000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строка 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14.6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графа 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– аборты (раздел  3. «Хирургическая работа организации»).</a:t>
            </a:r>
            <a:endParaRPr b="0" lang="en-US" sz="24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При правильной регистрации число абортов по форме № 13 (т1000+т2000) равно или превосходит аборты по форме № 14 за счет 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амбулаторно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произведенных абортов. Форма № 14 учитывает аборты, произведенные 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только в стационарных условиях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24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	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,1000,7,04+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,2000,7,04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=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,4000,141,03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3868560" y="863640"/>
            <a:ext cx="7315200" cy="512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4000"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rbel"/>
              </a:rPr>
              <a:t>Межформенный контроль </a:t>
            </a:r>
            <a:endParaRPr b="0" lang="en-US" sz="36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С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ледует проводить с отчетной </a:t>
            </a: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формой № 14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«Сведения о деятельности подразделений медицинской организации, оказывающих медицинскую помощь в </a:t>
            </a:r>
            <a:r>
              <a:rPr b="0" i="1" lang="ru-RU" sz="2000" spc="-1" strike="noStrike">
                <a:solidFill>
                  <a:srgbClr val="000000"/>
                </a:solidFill>
                <a:latin typeface="Corbel"/>
              </a:rPr>
              <a:t>стационарных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условиях»:  таблица </a:t>
            </a: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4 000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строка </a:t>
            </a: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14.1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графа </a:t>
            </a: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3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– по поводу внематочной беременности (раздел  3. «Хирургическая работа организации»).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При правильной регистрации сумма внематочных беременностей из строк 7, таблиц 1000 и 2000 по форме № 13 равна числу операций по поводу внематочной беременности по форме № 14, при разнице значений необходимо предоставление пояснительной записки. 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Проблема абортов тесно связана с </a:t>
            </a:r>
            <a:r>
              <a:rPr b="0" i="1" lang="ru-RU" sz="2000" spc="-1" strike="noStrike">
                <a:solidFill>
                  <a:srgbClr val="000000"/>
                </a:solidFill>
                <a:latin typeface="Corbel"/>
              </a:rPr>
              <a:t>контрацепцией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.  Поэтому следует обратить внимание на операции по поводу </a:t>
            </a:r>
            <a:r>
              <a:rPr b="0" i="1" lang="ru-RU" sz="2000" spc="-1" strike="noStrike">
                <a:solidFill>
                  <a:srgbClr val="000000"/>
                </a:solidFill>
                <a:latin typeface="Corbel"/>
              </a:rPr>
              <a:t>стерилизации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женщин ( форма № 14 таблица 4 000 Раздел 3.«Хирургическая работа организации» строка 13.4  графа 3).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Форма № 13 - «Сведения о беременности с абортивным исходом» - </a:t>
            </a:r>
            <a:r>
              <a:rPr b="1" lang="ru-RU" sz="2800" spc="-1" strike="noStrike">
                <a:solidFill>
                  <a:srgbClr val="ff0000"/>
                </a:solidFill>
                <a:latin typeface="Corbel"/>
              </a:rPr>
              <a:t>заполняется полностью.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868560" y="863640"/>
            <a:ext cx="7315200" cy="512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тчет включаются сведения обо всех прерываниях беременности в сроки до 22 недель, независимо от метода и места прерывания беременности. </a:t>
            </a:r>
            <a:endParaRPr b="0" lang="en-US" sz="32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orbel"/>
            </a:endParaRPr>
          </a:p>
          <a:p>
            <a:pPr lvl="1" marL="39996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40bad2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868560" y="863640"/>
            <a:ext cx="7315200" cy="512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4000" spc="-1" strike="noStrike">
              <a:solidFill>
                <a:srgbClr val="595959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Объект 4" descr=""/>
          <p:cNvPicPr/>
          <p:nvPr/>
        </p:nvPicPr>
        <p:blipFill>
          <a:blip r:embed="rId1"/>
          <a:stretch/>
        </p:blipFill>
        <p:spPr>
          <a:xfrm>
            <a:off x="3614760" y="1523880"/>
            <a:ext cx="7991280" cy="465156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52360" y="1123560"/>
            <a:ext cx="336096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Первичная учетная медицинская документация: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6" name="Нижний колонтитул 3"/>
          <p:cNvSpPr/>
          <p:nvPr/>
        </p:nvSpPr>
        <p:spPr>
          <a:xfrm>
            <a:off x="10634760" y="6356520"/>
            <a:ext cx="153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Content Placeholder 3" descr=""/>
          <p:cNvPicPr/>
          <p:nvPr/>
        </p:nvPicPr>
        <p:blipFill>
          <a:blip r:embed="rId1"/>
          <a:stretch/>
        </p:blipFill>
        <p:spPr>
          <a:xfrm>
            <a:off x="3181320" y="609480"/>
            <a:ext cx="8236080" cy="574848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Форма № 13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«Сведения о беременности с абортивным исходом»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9" name="Footer Placeholder 18"/>
          <p:cNvSpPr/>
          <p:nvPr/>
        </p:nvSpPr>
        <p:spPr>
          <a:xfrm>
            <a:off x="10634760" y="6356520"/>
            <a:ext cx="153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Форма № 13 - «Сведения о беременности с абортивным исходом»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866760" y="868320"/>
            <a:ext cx="3475080" cy="512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се аборты у девочек в возрасте до 14 лет вкл. считаются как аборты по </a:t>
            </a:r>
            <a:r>
              <a:rPr b="1" lang="ru-RU" sz="2400" spc="-1" strike="noStrike">
                <a:solidFill>
                  <a:srgbClr val="c00000"/>
                </a:solidFill>
                <a:latin typeface="Tahoma"/>
              </a:rPr>
              <a:t>медицинским показаниям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, в силу физиологической незрелости организма.</a:t>
            </a:r>
            <a:endParaRPr b="0" lang="en-US" sz="24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7818120" y="868320"/>
            <a:ext cx="3475080" cy="512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-</a:t>
            </a:r>
            <a:r>
              <a:rPr b="0" lang="ru-RU" sz="2000" spc="-1" strike="noStrike">
                <a:solidFill>
                  <a:srgbClr val="c00000"/>
                </a:solidFill>
                <a:latin typeface="Tahoma"/>
                <a:ea typeface="Arial"/>
              </a:rPr>
              <a:t>Все аборты у девочек до 14 лет вкл. показываются в форме  № 12. таблица 1000, стр.16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Tahoma"/>
              </a:rPr>
              <a:t>На каждый случай аборта у девочек до 14 лет вкл. представляется пояснительная записка: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Форма № 13 - «Сведения о беременности с абортивным исходом»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66760" y="868320"/>
            <a:ext cx="3475080" cy="512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К отчету прилагается </a:t>
            </a:r>
            <a:r>
              <a:rPr b="1" lang="ru-RU" sz="2400" spc="-1" strike="noStrike">
                <a:solidFill>
                  <a:srgbClr val="ff0000"/>
                </a:solidFill>
                <a:latin typeface="Corbel"/>
              </a:rPr>
              <a:t>пояснительня записка 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с обязательным распределением числа абортов у детей до 14 лет (включительно) по возрастам:</a:t>
            </a:r>
            <a:endParaRPr b="0" lang="en-US" sz="24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7818120" y="868320"/>
            <a:ext cx="3475080" cy="512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- Фамилия, имя, отчество пациентки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- Дата рождения, возраст на момент поступления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- Номер первичной медицинской документации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- Медицинская организация, направившая на госпитализацию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- Диагноз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- Код по МКБ-10 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Таблица 1000: беременность с абортивным исходом в срок до 12 недель. 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866760" y="868320"/>
            <a:ext cx="3475080" cy="512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Corbel"/>
              </a:rPr>
              <a:t> 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pic>
        <p:nvPicPr>
          <p:cNvPr id="198" name="Объект 2" descr=""/>
          <p:cNvPicPr/>
          <p:nvPr/>
        </p:nvPicPr>
        <p:blipFill>
          <a:blip r:embed="rId1"/>
          <a:stretch/>
        </p:blipFill>
        <p:spPr>
          <a:xfrm>
            <a:off x="3603600" y="868320"/>
            <a:ext cx="7726320" cy="5145120"/>
          </a:xfrm>
          <a:prstGeom prst="rect">
            <a:avLst/>
          </a:prstGeom>
          <a:ln w="0">
            <a:noFill/>
          </a:ln>
        </p:spPr>
      </p:pic>
      <p:sp>
        <p:nvSpPr>
          <p:cNvPr id="199" name="Овал 10"/>
          <p:cNvSpPr/>
          <p:nvPr/>
        </p:nvSpPr>
        <p:spPr>
          <a:xfrm>
            <a:off x="6886440" y="1839960"/>
            <a:ext cx="755640" cy="293760"/>
          </a:xfrm>
          <a:prstGeom prst="ellipse">
            <a:avLst/>
          </a:prstGeom>
          <a:solidFill>
            <a:srgbClr val="ff0000"/>
          </a:solidFill>
          <a:ln w="108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0" name="Овал 13"/>
          <p:cNvSpPr/>
          <p:nvPr/>
        </p:nvSpPr>
        <p:spPr>
          <a:xfrm>
            <a:off x="7621560" y="1839960"/>
            <a:ext cx="2505240" cy="293760"/>
          </a:xfrm>
          <a:prstGeom prst="ellipse">
            <a:avLst/>
          </a:prstGeom>
          <a:noFill/>
          <a:ln w="28440">
            <a:solidFill>
              <a:srgbClr val="d539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Овал 15"/>
          <p:cNvSpPr/>
          <p:nvPr/>
        </p:nvSpPr>
        <p:spPr>
          <a:xfrm>
            <a:off x="6988320" y="2133720"/>
            <a:ext cx="617400" cy="971280"/>
          </a:xfrm>
          <a:prstGeom prst="ellipse">
            <a:avLst/>
          </a:prstGeom>
          <a:noFill/>
          <a:ln w="28440">
            <a:solidFill>
              <a:srgbClr val="d539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52000" y="1123560"/>
            <a:ext cx="294804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rbel"/>
              </a:rPr>
              <a:t>Форма № 13 </a:t>
            </a: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Таблица 1000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Строка 1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668760" y="867960"/>
            <a:ext cx="7710480" cy="132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3000"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Беременность с абортивным исходом в срок до 12 недель (О00-О06)</a:t>
            </a:r>
            <a:endParaRPr b="0" lang="en-US" sz="36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668760" y="2776320"/>
            <a:ext cx="7624800" cy="32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Исключена продолжающаяся беременность при многоплодном зачатии после аборта одного или более чем одного плода (О31.1).</a:t>
            </a:r>
            <a:endParaRPr b="0" lang="en-US" sz="28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1-23T10:50:32Z</dcterms:created>
  <dc:creator>Гребенник Татьяна Константиновна</dc:creator>
  <dc:description/>
  <dc:language>en-US</dc:language>
  <cp:lastModifiedBy>Саша</cp:lastModifiedBy>
  <cp:lastPrinted>2018-12-10T14:36:03Z</cp:lastPrinted>
  <dcterms:modified xsi:type="dcterms:W3CDTF">2018-12-11T23:38:29Z</dcterms:modified>
  <cp:revision>61</cp:revision>
  <dc:subject/>
  <dc:title>Презентация PowerPoint</dc:title>
</cp:coreProperties>
</file>