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8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359C5-E095-4B1C-A06B-1ABA87850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825EC-F8EE-458B-9C12-558653F12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946CB-53C9-492E-8A5E-911429D31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B8453-8EA9-4F49-A101-F1263A81F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2A1A9-8629-451B-8E29-A699AE7A4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263FB-EE8C-4E13-AA8A-4B4FD17B3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58651-79EB-4D13-80E0-4640D4264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476ED-DCCF-4887-B731-E24F65915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457DE-ED4B-44C8-AB58-86E64D00A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52576-DB06-492E-BA7A-03E0FA54E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E0860-6180-40D0-B597-59EC3799A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538E6-71F0-4821-9313-C9EC53FD3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9B798-B920-46F8-8571-77F6DD409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CA825-D504-44F0-BBEF-9334B2645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44151-39B5-4ACD-A94A-B102F7DFA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9AF15-638C-463D-8070-4EA55EF87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B4A63-E3F4-4B4C-BD22-53AA3DC73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8F9C2A-E677-470B-B231-086CEAC24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B551D0-59B9-4909-90ED-15471164A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214C1D-EB4D-4403-BD24-A8734D06B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899129-66C8-4697-A160-BE2898834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602E47-9CCD-4129-BA93-AA485BDE2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52AA8-6F19-4F65-885F-F322C2AAC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6CF14E-0C5E-4AF2-9845-CFF74FC6A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D266D5-7F7D-4CB2-A3B6-14A7286C0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E75892-CC1D-4CBD-894D-D88029162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2C74C1-EFBB-4AA2-BF66-0ECD3D32D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9ECB37-1B39-4F6C-B6B8-CCD5F0761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CD6EB9-BAEC-4CC8-817C-E50B24F76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D6BE46-1247-4862-9BEE-CEBB89EE7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EE8842-53CF-420F-9D02-4688AB4AD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C58A7F-3C96-46A2-A4A5-A353DAC8A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6706F0-675C-4D2C-A5FB-3C1FED2AF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8D3CD-ED7D-472F-A6F9-7F1CCF8F5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95F1B7-53F1-4725-BB81-8CABC2D4B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15126A-8EBF-401F-9BC9-BB0E5FA4B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E2E052-60C9-49EF-ADA2-457C4E8BD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BE2762-334C-404E-AFE2-5717CBB9B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DAABAD-BBE8-49ED-9994-DD07B724B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588F0C-1F4D-40C7-8A95-67AEDA817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773132-611C-47B5-B03C-51DB2E746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E19DC2-E356-4E08-AB01-58D183116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7CA863-6800-4420-9303-4DD72F392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33333-9F7D-468B-A983-729140067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DE6B0-C6F4-4C11-B9C8-E2632D0AE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DEE56-2A22-4A47-9F5F-A37476FDD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23A14-82D5-49BB-BAE2-377AFCAB2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6DB9B-BA30-4B07-8DAD-99093BCB5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89C2A-5934-486A-AFF7-56AE3B7842A9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57AC5-4742-4F08-8C39-F976268BABA3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F8DA5-F5F5-4BD5-A773-752AE5D548ED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5378C-1230-4856-BFD1-36FAD4A4EE1F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2" descr=""/>
          <p:cNvPicPr/>
          <p:nvPr/>
        </p:nvPicPr>
        <p:blipFill>
          <a:blip r:embed="rId1"/>
          <a:stretch/>
        </p:blipFill>
        <p:spPr>
          <a:xfrm>
            <a:off x="682560" y="2432160"/>
            <a:ext cx="8070840" cy="394956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1371600" y="152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lnSpc>
                <a:spcPct val="8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600" spc="-1" strike="noStrike">
                <a:solidFill>
                  <a:srgbClr val="ffffff"/>
                </a:solidFill>
                <a:latin typeface="Constantia"/>
              </a:rPr>
              <a:t>Брендирование автомобилей</a:t>
            </a:r>
            <a:endParaRPr b="0" lang="en-US" sz="5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Реализация мероприятий по приобретению медицинского автомобильного транспорта в 2021-2022г.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98" name="Picture 2" descr="C:\Users\Главная медсестра\Desktop\авто у приемного — копия.jpg"/>
          <p:cNvPicPr/>
          <p:nvPr/>
        </p:nvPicPr>
        <p:blipFill>
          <a:blip r:embed="rId1"/>
          <a:stretch/>
        </p:blipFill>
        <p:spPr>
          <a:xfrm>
            <a:off x="457200" y="2627280"/>
            <a:ext cx="4038480" cy="302112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3" descr="C:\Users\Главная медсестра\Desktop\авто у гаража.jpg"/>
          <p:cNvPicPr/>
          <p:nvPr/>
        </p:nvPicPr>
        <p:blipFill>
          <a:blip r:embed="rId2"/>
          <a:stretch/>
        </p:blipFill>
        <p:spPr>
          <a:xfrm>
            <a:off x="4648320" y="2627280"/>
            <a:ext cx="4038480" cy="302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Новоорловская участковая больница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ыездов за 2021 год – 168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ыездов за 2022 год - 142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1" name="Picture 2" descr="C:\Users\Главная медсестра\Desktop\нуб нива.jpg"/>
          <p:cNvPicPr/>
          <p:nvPr/>
        </p:nvPicPr>
        <p:blipFill>
          <a:blip r:embed="rId1"/>
          <a:stretch/>
        </p:blipFill>
        <p:spPr>
          <a:xfrm>
            <a:off x="457200" y="1523880"/>
            <a:ext cx="4038480" cy="302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xuJLec</dc:creator>
  <dc:description/>
  <dc:language>en-US</dc:language>
  <cp:lastModifiedBy>Главная медсестра</cp:lastModifiedBy>
  <dcterms:modified xsi:type="dcterms:W3CDTF">2022-11-11T09:06:49Z</dcterms:modified>
  <cp:revision>19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