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F51-6621-44D4-8FCA-D9328415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F5B-662F-4314-AF81-B74DF25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FBC-C043-4A53-9DBD-FCE76164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C0C-EF81-46AE-88C4-A2FDB4B1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35E-B6FD-4EE0-AABD-E746B79E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FA6-3B39-4646-9C7E-660A339A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90E-25C0-4DF3-84D4-3C86188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DD5-1F52-40D1-87E7-BE675890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003-D887-4109-871A-8DA5125D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351-3CE7-48F8-BCE3-10A2F5D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4FE-6128-4648-92C2-C807635C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2F6-E1FC-42BE-BA34-05B2AE7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5F33-8A67-4285-A8DF-5C9A826BC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469080"/>
            <a:ext cx="79218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единица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431496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ь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7497"/>
          <p:cNvSpPr/>
          <p:nvPr/>
        </p:nvSpPr>
        <p:spPr>
          <a:xfrm>
            <a:off x="-734760" y="-1795680"/>
            <a:ext cx="106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100)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Коды по ОКЕИ: человек – 792;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371"/>
          <p:cNvSpPr/>
          <p:nvPr/>
        </p:nvSpPr>
        <p:spPr>
          <a:xfrm>
            <a:off x="516240" y="904320"/>
            <a:ext cx="8193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ы по ОКЕИ: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39640" y="474480"/>
            <a:ext cx="842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ы по ОКЕИ: человек – 792; единица – 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71400" y="690840"/>
            <a:ext cx="831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Код по ОКЕИ: человек – 7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484280"/>
          <a:ext cx="8280360" cy="515772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: человек – 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согласно отправленной формы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вместе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 протоколам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тологоанатомических вскрытий в районе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ончарова Марина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-статистик Хамина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dcterms:modified xsi:type="dcterms:W3CDTF">2019-12-19T02:09:59Z</dcterms:modified>
  <cp:revision>47</cp:revision>
  <dc:subject/>
  <dc:title>Слайд 1</dc:title>
</cp:coreProperties>
</file>