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93576-7CCC-42EA-B963-08D10A27C9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E17D4-B10E-4550-9F1A-928CD728438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Open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0" name="Text Box 2"/>
          <p:cNvSpPr/>
          <p:nvPr/>
        </p:nvSpPr>
        <p:spPr>
          <a:xfrm>
            <a:off x="685800" y="4400640"/>
            <a:ext cx="54864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27A6-34D3-4B50-8C7E-7F6DAAC1D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AC19-E448-4A8E-8E3F-8B3E0E60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EC6C-FFF3-4986-BB9B-D8BC21903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EF20-C389-4B9D-987C-5AF40B68E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6D2F-8B01-40A7-BA19-E6415FFBC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EDE9-2A69-40FA-8B23-923D151F1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0C14-32A8-48D3-A46B-3CE21791A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8819-E40B-4F39-B283-2BA4978DA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F385-ACC4-418F-B554-3D28C4EAE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688E-8AAD-48AD-8B22-7CA62899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B6D8-B1DB-45CB-8698-F64E7DAE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73E9-8DAE-45EA-A77D-ACB93C13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A1EEA-BD78-4CBE-B3B5-56652650DE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одовой отчет за 2019 г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ункциональная диагност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яснительная запис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95280" y="1989000"/>
          <a:ext cx="8353440" cy="1870200"/>
        </p:xfrm>
        <a:graphic>
          <a:graphicData uri="http://schemas.openxmlformats.org/drawingml/2006/table">
            <a:tbl>
              <a:tblPr/>
              <a:tblGrid>
                <a:gridCol w="466560"/>
                <a:gridCol w="1646280"/>
                <a:gridCol w="1290600"/>
                <a:gridCol w="773280"/>
                <a:gridCol w="1033560"/>
                <a:gridCol w="1788840"/>
                <a:gridCol w="1354320"/>
              </a:tblGrid>
              <a:tr h="239040">
                <a:tc gridSpan="7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3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О врач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оянный или совместите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если совместитель – основная специальность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ж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егор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ы исследования, которые выполня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ы исследования, которыми владе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TextBox 4"/>
          <p:cNvSpPr/>
          <p:nvPr/>
        </p:nvSpPr>
        <p:spPr>
          <a:xfrm>
            <a:off x="324000" y="1484280"/>
            <a:ext cx="43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Д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324000" y="414972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ППАРА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95280" y="4797360"/>
          <a:ext cx="8353440" cy="365040"/>
        </p:xfrm>
        <a:graphic>
          <a:graphicData uri="http://schemas.openxmlformats.org/drawingml/2006/table">
            <a:tbl>
              <a:tblPr/>
              <a:tblGrid>
                <a:gridCol w="520560"/>
                <a:gridCol w="2916360"/>
                <a:gridCol w="2227320"/>
                <a:gridCol w="1481040"/>
                <a:gridCol w="1208160"/>
              </a:tblGrid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готови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од ввода в эксплуатац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х. состоя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се компьютерные электрокардиографы – аппараты (Кардиометр, Поли-Спектр,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CG-Easy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CG-Dongle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(кардиофлешка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се ультразвуковые методы (ЭхоКГ, УЗДГ сосудов, ЭхоЭГ, нейросонография) –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 30 форме – в отчет по УЗИ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о в пояснительной записке указать количество и на каком аппарат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ульсоксиметрию в рамках врачебного осмотра в отчет не вносим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611280" y="1341360"/>
            <a:ext cx="7848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ркан Виталий Станислав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рожная клиническая больница на ст.Чита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А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РЖД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.Чита, ул.Горбунова, 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 раб:  8 914 516 570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 сот:   8 924 270 933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taly.barkan@yandex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19T00:55:17Z</dcterms:created>
  <dc:creator>пк</dc:creator>
  <dc:description/>
  <dc:language>en-US</dc:language>
  <cp:lastModifiedBy>пк</cp:lastModifiedBy>
  <dcterms:modified xsi:type="dcterms:W3CDTF">2019-12-19T04:31:56Z</dcterms:modified>
  <cp:revision>20</cp:revision>
  <dc:subject/>
  <dc:title>Слайд 1</dc:title>
</cp:coreProperties>
</file>