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8BB6-C159-46D0-A01C-C0D9D5543CF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092D-5298-44BB-A807-688FB210FA8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849-8602-47BC-9D3A-5AD0F9F0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4507-767F-40C2-AA5C-232538AE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158-C22F-4CC5-9701-B6FCA3F0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C1F-797E-4A09-BAF8-4E20BA71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9C0-63C8-4C17-95EF-436A07EF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73C-5630-4CCF-8A94-30FFD9CD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D095-0617-47B8-BF21-96A2AE00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32F0-3B79-4A19-B57D-2DACEA89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D6F-23C3-4431-9F0B-CEBCA2DE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D16-CDDD-44A5-8978-449275F5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114-0724-4D20-AC4A-146A779E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793-E81D-46FB-84AE-93077080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7E57-CFE1-4FA8-9B9C-132283CEFB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ndchita.ru/" TargetMode="External"/><Relationship Id="rId2" Type="http://schemas.openxmlformats.org/officeDocument/2006/relationships/hyperlink" Target="http://www.kndchita.ru/" TargetMode="External"/><Relationship Id="rId3" Type="http://schemas.openxmlformats.org/officeDocument/2006/relationships/hyperlink" Target="http://www.kndchita.r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21120" y="5122800"/>
            <a:ext cx="4322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А. Б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МР ГАУЗ «Забайкальский краевой 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4960" y="1720800"/>
            <a:ext cx="85201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12800" y="191556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i?id=276645700-65-72&amp;n=21"/>
          <p:cNvPicPr/>
          <p:nvPr/>
        </p:nvPicPr>
        <p:blipFill>
          <a:blip r:embed="rId1"/>
          <a:stretch/>
        </p:blipFill>
        <p:spPr>
          <a:xfrm>
            <a:off x="441360" y="264960"/>
            <a:ext cx="1119240" cy="103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4960" y="1219320"/>
            <a:ext cx="85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тч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ам федерального статистического наблю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7 и №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5920" y="23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Бланки форм № 11 и № 37 за отчетный 2019 год остаются без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ФСН утверждены приказом Росс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№ 410 от 16.10.2013 г. (формы № 11 и № 37). Минздрав России поставил задачу разработки новой формы, которая в большей степени соответствует российской и мировой наркологической ситу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новой формы был разослан во все субъекты России для ознакомления и об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изучаются и анализируются все предложения и дополнения, полученные от су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D914-54F2-4798-89B6-358252094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9440" y="1609560"/>
            <a:ext cx="82296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табличные и межформенные проверки в 2019 году остаются без изме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47440"/>
            <a:ext cx="8350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т. формы № 11 и № 37 в 2 экз., подписанные руководителем, с печатью, проштампованные в МЗ в отделе стат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. № 30 (разделы «штаты, кадры», «посещения», «мед. освидетельствование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. № 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лан работы наркологической службы района на 2020 г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нъюнктурный отчет за 2019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D739-CC0E-49F8-9532-818527E34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57200" y="0"/>
            <a:ext cx="8229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сдаче годового отчета и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0" y="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Контакты:</a:t>
            </a: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OMR-KND@yande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. 41-64-4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0" y="2619360"/>
            <a:ext cx="91440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Официальный сайт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АУЗ «Забайкальский краевой наркологический диспансер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nd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hita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528480" y="961920"/>
            <a:ext cx="799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bolnica"/>
          <p:cNvPicPr/>
          <p:nvPr/>
        </p:nvPicPr>
        <p:blipFill>
          <a:blip r:embed="rId1"/>
          <a:stretch/>
        </p:blipFill>
        <p:spPr>
          <a:xfrm>
            <a:off x="2759040" y="3930480"/>
            <a:ext cx="3575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Елена</cp:lastModifiedBy>
  <dcterms:modified xsi:type="dcterms:W3CDTF">2019-12-18T07:34:14Z</dcterms:modified>
  <cp:revision>210</cp:revision>
  <dc:subject/>
  <dc:title>PowerPoint Template</dc:title>
</cp:coreProperties>
</file>