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F70-1900-4A52-906B-809DD05D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942-7F2D-4ED3-8358-4DDA0E18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950-B53F-415B-AFED-F21FD90F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7A66-A0D0-49EE-ACAD-8D61840A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1331-945D-4AC0-8A7C-15E8DABE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112C-4F03-4F8D-B25F-C74E8605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8DB9-E30D-4945-998A-CB0E19D2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F139-9A8C-4CB0-B458-9E624670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1586-642D-4AEB-863F-7242E2CB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303C-84E0-4397-92A0-C9EE3456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D0CE-BADA-49F7-9EC6-9509D3BC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C4A-1FCF-4E25-9265-C2ABEBDD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7B52-4BC3-4180-A216-31A504D0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4705-1AD8-4F7A-9DFC-B4F4AFFD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0C40-23B4-4259-987D-1353A995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820E-60DA-4889-905E-7EBD018F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C5F0-97CC-4116-9B76-5F33117E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41D-DEA5-416B-80DA-382C8A6A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97F4-E76E-4139-86A6-CAA6B2E5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6ACA-3CB5-4354-B473-FCFE18CF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5C11-0AD7-4867-AB23-63450951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95A-5A37-4EB3-82E6-4D899F43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8B7-3D09-4869-BB5B-3027D9F9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8D2E-4EEB-41D8-ACCB-B94AEB4B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25D1-2751-41A6-83C7-E7C5FF2698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defRPr>
            </a:lvl1pPr>
          </a:lstStyle>
          <a:p>
            <a: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AF86-12A8-47DC-BD5D-A6806E0E6224}" type="slidenum">
              <a: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iirg.ru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РАЗДЕЛ </a:t>
            </a:r>
            <a:r>
              <a:rPr b="1" lang="en-US" sz="5400" spc="-1" strike="noStrike">
                <a:solidFill>
                  <a:srgbClr val="000000"/>
                </a:solidFill>
                <a:latin typeface="Calibri Light"/>
              </a:rPr>
              <a:t>VI</a:t>
            </a: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.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РАБОТА ДИАГНОСТИЧЕСКИХ ОТДЕЛЕНИЙ (КАБИНЕТОВ)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занцев Константин Борисо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5049000" y="577044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.12.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3587760"/>
          <a:ext cx="10515600" cy="420696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еоденситометры рентгенов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вские аппараты всего (без компьютерных томограф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Р томограф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менее 1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ля костей и суставов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е 3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явочные автоматы и кам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91512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истемы компьютерной радиографии (рентгенографии на фотостимулируемых люминофора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838080" y="1625760"/>
          <a:ext cx="10515600" cy="195084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48780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1224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9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агнитно-резонансные томографи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1690560"/>
          <a:ext cx="10515600" cy="4587840"/>
        </p:xfrm>
        <a:graphic>
          <a:graphicData uri="http://schemas.openxmlformats.org/drawingml/2006/table">
            <a:tbl>
              <a:tblPr/>
              <a:tblGrid>
                <a:gridCol w="4560840"/>
                <a:gridCol w="682920"/>
                <a:gridCol w="785520"/>
                <a:gridCol w="1657440"/>
                <a:gridCol w="1658880"/>
                <a:gridCol w="1170000"/>
              </a:tblGrid>
              <a:tr h="1828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внутривенным  контраст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 3 выполне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условиях дневного стациона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выполнено М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40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д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гких и средост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брюшной полости и забрюшинного простран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малого т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чной желе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лов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и спин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: шейного отде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рудного отдела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яснично-крестцового отде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“голова-шея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тей, суставов и мягких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осу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прочих органов и сис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венционные вмешательства под МРТ – контролем (из стр.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Box 2"/>
          <p:cNvSpPr/>
          <p:nvPr/>
        </p:nvSpPr>
        <p:spPr>
          <a:xfrm>
            <a:off x="6719760" y="4782960"/>
            <a:ext cx="4891320" cy="14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нумер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ие отделов позвоночника по аналогии с К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ие строки для подсчета исследований сосуд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53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563c1"/>
                </a:solidFill>
                <a:uFillTx/>
                <a:latin typeface="Calibri Light"/>
                <a:hlinkClick r:id="rId1"/>
              </a:rPr>
              <a:t>niirg.ru</a:t>
            </a:r>
            <a:br>
              <a:rPr sz="8000"/>
            </a:b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ЕСКИД (ЕДИНАЯ СИСТЕМА КОНТРОЛЯ И УЧЕТА ИНДИВИДУАЛЬНЫХ ДОЗ ОБЛУЧЕНИЯ ГРАЖДАН)</a:t>
            </a: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ДОЗ-1,2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обновление от 11.12.2019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Доз – 3  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новление от 10.01.201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8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КАЗАНЦЕВ КОНСТАНТИН БОРИСОВИЧ</a:t>
            </a:r>
            <a:br>
              <a:rPr sz="4400"/>
            </a:br>
            <a:br>
              <a:rPr sz="4400"/>
            </a:br>
            <a:r>
              <a:rPr b="1" lang="ru-RU" sz="9600" spc="-1" strike="noStrike">
                <a:solidFill>
                  <a:srgbClr val="000000"/>
                </a:solidFill>
                <a:latin typeface="Calibri Light"/>
              </a:rPr>
              <a:t>8-924-272-8882</a:t>
            </a:r>
            <a:br>
              <a:rPr sz="9600"/>
            </a:br>
            <a:br>
              <a:rPr sz="9600"/>
            </a:br>
            <a:r>
              <a:rPr b="1" lang="en-US" sz="7200" spc="-1" strike="noStrike">
                <a:solidFill>
                  <a:srgbClr val="000000"/>
                </a:solidFill>
                <a:latin typeface="Calibri Light"/>
              </a:rPr>
              <a:t>dr.kazancev2017@yandex.ru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bject 2"/>
          <p:cNvSpPr/>
          <p:nvPr/>
        </p:nvSpPr>
        <p:spPr>
          <a:xfrm>
            <a:off x="823896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ject 3"/>
          <p:cNvSpPr/>
          <p:nvPr/>
        </p:nvSpPr>
        <p:spPr>
          <a:xfrm>
            <a:off x="2208240" y="2565360"/>
            <a:ext cx="1440" cy="3225960"/>
          </a:xfrm>
          <a:custGeom>
            <a:avLst/>
            <a:gdLst/>
            <a:ahLst/>
            <a:rect l="l" t="t" r="r" b="b"/>
            <a:pathLst>
              <a:path w="1904" h="3225800">
                <a:moveTo>
                  <a:pt x="1587" y="0"/>
                </a:moveTo>
                <a:lnTo>
                  <a:pt x="0" y="322580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bject 4"/>
          <p:cNvSpPr/>
          <p:nvPr/>
        </p:nvSpPr>
        <p:spPr>
          <a:xfrm>
            <a:off x="1919160" y="115920"/>
            <a:ext cx="837432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bject 7"/>
          <p:cNvSpPr/>
          <p:nvPr/>
        </p:nvSpPr>
        <p:spPr>
          <a:xfrm>
            <a:off x="825192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6"/>
          <p:cNvSpPr/>
          <p:nvPr/>
        </p:nvSpPr>
        <p:spPr>
          <a:xfrm>
            <a:off x="165240" y="179280"/>
            <a:ext cx="11255400" cy="62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водятся большие изменения в раздел 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АБОТА ДИАГНОСТИЧЕСКИХ ОТДЕЛЕНИЙ (КАБИНЕТОВ)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00 «Рентгенодиагностические исследования (без профилактических исследований)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511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нтгенохирургия, рентгеноэндоваскулярные диагностика и лече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3 «Компьютерная томограф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5114 «Рентгенологические профилактические (скрининговые) обследова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7 «Аппараты и оборудование для лучевой диагностик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9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гнитно-резонансные томограф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.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Рентгенодиагностические исследования (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без профилактических исследований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8847360" cy="23288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Изображение выглядит как экран, здание, легкий, сидит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38080" y="4073400"/>
            <a:ext cx="891540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1. Рентгенодиагностические исследования (без профилактических исследований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4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8204400" cy="21589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Изображение выглядит как экран, здание, легкий, часы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52480" y="3863880"/>
            <a:ext cx="8204040" cy="1889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7566120" y="5091120"/>
            <a:ext cx="4292640" cy="97776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ы позвоночн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а денситометрия Проставлены кресты в ячейках, кото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не заполняю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1. Рентгенодиагностические исследования (без профилактических исследований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9107640" cy="23972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Изображение выглядит как экран, здание, часы, большой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38080" y="4118040"/>
            <a:ext cx="9107640" cy="1881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"/>
          <p:cNvPicPr/>
          <p:nvPr/>
        </p:nvPicPr>
        <p:blipFill>
          <a:blip r:embed="rId3"/>
          <a:srcRect l="-274" t="-39826" r="21380" b="-18605"/>
          <a:stretch/>
        </p:blipFill>
        <p:spPr>
          <a:xfrm>
            <a:off x="825480" y="5904000"/>
            <a:ext cx="9107640" cy="2840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7643880" y="5167440"/>
            <a:ext cx="4292640" cy="143640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 томосинтез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ы околоносовые пазухи, челюсти и  височная к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авлены кресты в ячейках, кото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не заполняю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3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омпьютерная томограф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1494000"/>
          <a:ext cx="10515600" cy="4846320"/>
        </p:xfrm>
        <a:graphic>
          <a:graphicData uri="http://schemas.openxmlformats.org/drawingml/2006/table">
            <a:tbl>
              <a:tblPr/>
              <a:tblGrid>
                <a:gridCol w="4192560"/>
                <a:gridCol w="685800"/>
                <a:gridCol w="1094040"/>
                <a:gridCol w="1552320"/>
                <a:gridCol w="1552680"/>
                <a:gridCol w="1438200"/>
              </a:tblGrid>
              <a:tr h="1828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и сист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гр. 3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внутривенного контрас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 внутривенным контрастирова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 ч.: голов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колоносовых пазу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исочной к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 шеи, гортани и гортаногл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груди (без сердца и коронарных сосуд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дца и коронарных сосу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брюшной полости (печень,  селезенка,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желудочная же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ек и мочевых пу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малого т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звоночника, из не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шейный отдел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грудной отде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поясничный и крестцовый  отдел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остей, суставов и мягких тканей конеч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c55a11"/>
                          </a:solidFill>
                          <a:latin typeface="Calibri"/>
                        </a:rPr>
                        <a:t>прочих органов и сис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нгиография иных сосу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4" name="TextBox 1"/>
          <p:cNvSpPr/>
          <p:nvPr/>
        </p:nvSpPr>
        <p:spPr>
          <a:xfrm>
            <a:off x="7445520" y="4572000"/>
            <a:ext cx="4093920" cy="19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ы височны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 и околоносовые пазух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ы отделв позвоночн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тавы, коненчости и кости таза объеденин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ы столбцы 4 и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14.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Рентгенологические 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профилактические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скрининговые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) обследования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1709640"/>
          <a:ext cx="10515600" cy="4456080"/>
        </p:xfrm>
        <a:graphic>
          <a:graphicData uri="http://schemas.openxmlformats.org/drawingml/2006/table">
            <a:tbl>
              <a:tblPr/>
              <a:tblGrid>
                <a:gridCol w="6042240"/>
                <a:gridCol w="596880"/>
                <a:gridCol w="893520"/>
                <a:gridCol w="1492560"/>
                <a:gridCol w="1490400"/>
              </a:tblGrid>
              <a:tr h="2350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ям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цам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рентгеновских профилактических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грудной клетки, всего,  в том числе выполнено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пленочных флюорограф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передвижных пленочных флюорографических установках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цифровых флюорографах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передвижных цифровых флюорографических установ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графий на плен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изкодозных компьютерных томограф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рентгеновских профилактических исследований молочных же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 них выполнено:  на пленочных аппара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цифровых аппаратах и аппаратах, оснащенных систем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ьютерной радиографи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передвижных маммографических установка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а аппаратах с функцией томосинт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7" name="TextBox 1"/>
          <p:cNvSpPr/>
          <p:nvPr/>
        </p:nvSpPr>
        <p:spPr>
          <a:xfrm>
            <a:off x="7605720" y="4708440"/>
            <a:ext cx="4194000" cy="20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у 1 добавлено слово "рентгеновски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2.1 добавлено "в том числе ... пленочны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а строка 1.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у 2 добавлено слово "рентгеновски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строк 4, 8  (старая таблица) "на цифровых аппаратах и системах  компьютерной радиографии"  изменена на  "на цифровых аппаратах и аппаратах, оснащенных системой компьютерной радиографии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1725480"/>
          <a:ext cx="10515600" cy="5029200"/>
        </p:xfrm>
        <a:graphic>
          <a:graphicData uri="http://schemas.openxmlformats.org/drawingml/2006/table">
            <a:tbl>
              <a:tblPr/>
              <a:tblGrid>
                <a:gridCol w="4494240"/>
                <a:gridCol w="658800"/>
                <a:gridCol w="1033560"/>
                <a:gridCol w="1224000"/>
                <a:gridCol w="846000"/>
                <a:gridCol w="1128960"/>
                <a:gridCol w="1130040"/>
              </a:tblGrid>
              <a:tr h="15696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еуправляемые поворотные столы-штативы с функцией рентген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3 рабочих мес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2 рабочих ме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1 рабочее мест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фровые аппараты для исследований органов грудной клетки (цифровые флюор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шасси автомоби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еночные флюорограф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шасси автомоби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латны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вижные рентгенотелевизионные установки типа С-ду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урологически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ммографически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функцией томосинте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тальные аппара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прицельные (радиовизи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норамные томографы (ортопантом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тальные томограф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иографические аппараты стационар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249640"/>
          <a:ext cx="10515600" cy="306360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27468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1224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ные томограф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пошаг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ральные односрез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ральные многосрезов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838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 ч.: менее 16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-40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4 ср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 и более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виж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4T17:34:54Z</dcterms:created>
  <dc:creator>Игорь Тюрин</dc:creator>
  <dc:description/>
  <dc:language>en-US</dc:language>
  <cp:lastModifiedBy>Елена Александровна Бронникова</cp:lastModifiedBy>
  <dcterms:modified xsi:type="dcterms:W3CDTF">2019-12-20T01:15:28Z</dcterms:modified>
  <cp:revision>32</cp:revision>
  <dc:subject/>
  <dc:title>Работа диагностических отделений</dc:title>
</cp:coreProperties>
</file>