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9BFE-7730-4210-B373-4ACE20347D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2906-66E3-46F4-8A27-66B3F19A1F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2332-6CF1-438F-A771-B7EB84CD7F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FACA-3DAD-4943-AAA6-AD61B0DB8D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3A43-77AE-4E4E-AF1C-7E7C8FF018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3BB2-D469-42FE-AF8B-61360900B1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7D88-E019-4DA0-BA02-D7CCC75531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8D53-B8E9-4F2C-A029-A53542378C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29EC-914A-4439-8F70-38ED34C864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C8C4-53A0-4E73-B090-6A574FE00D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595E-2CC8-43A1-A41F-29EF00154B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5DEA-D03E-4D28-82B5-A34B459FE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3A45-B3A0-4F6B-9003-51A38F1B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BD0B-CE20-4782-BB45-EFC5A3DE9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3544-7CB5-4FD3-9F06-9DBF27BEE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7CB8-7289-45AE-9D29-4BE5BE6D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4825-C6C2-4DEF-9B51-1CC165D7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EF55-009E-42DE-A60A-13D41B84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B173-8739-4CC0-9017-53E0C576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A70F-6AB0-4D8D-B897-96B72086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5298-6C00-4537-949F-4D11B6C2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AC7C-F6EF-4364-8F3D-222A7A4C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FE2D-2447-4A26-BC86-1051FD43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3418-C581-48D7-B220-60ACFA3CAF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71280" y="-27000"/>
            <a:ext cx="9251640" cy="6885000"/>
          </a:xfrm>
          <a:prstGeom prst="rect">
            <a:avLst/>
          </a:prstGeom>
          <a:ln w="0">
            <a:noFill/>
          </a:ln>
        </p:spPr>
      </p:pic>
      <p:sp>
        <p:nvSpPr>
          <p:cNvPr id="49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20680" y="1641960"/>
            <a:ext cx="866628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ФОРМА ФЕДЕРАЛЬНОГО СТАТИСТИЧЕСКОГО НАБЛЮД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6-ВН «СВЕДЕНИЯ О ПРИЧИНАХ ВРЕМЕННОЙ НЕТРУДОСПОСОБ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30240" y="0"/>
            <a:ext cx="9252000" cy="6885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87280" y="960120"/>
            <a:ext cx="711072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ом сведений для заполнения формы 16-ВН является  «Книга регистрации листков нетрудоспособности» (Ф.№036/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34920" y="-27000"/>
            <a:ext cx="8858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6 – В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а приказом Росстата № 723 от 25.12.2014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-71280" y="766800"/>
            <a:ext cx="92516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"/>
          <p:cNvPicPr/>
          <p:nvPr/>
        </p:nvPicPr>
        <p:blipFill>
          <a:blip r:embed="rId2"/>
          <a:stretch/>
        </p:blipFill>
        <p:spPr>
          <a:xfrm>
            <a:off x="36360" y="981000"/>
            <a:ext cx="1152720" cy="12258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1197000" y="2479680"/>
            <a:ext cx="711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лучаев подсчитывается только по закрытым (по данному случаю) листкам нетрудо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201680" y="3935520"/>
            <a:ext cx="713412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у 16-ВН включаются сведе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числе дней временной нетрудоспособности (ВН) - графа 5 - по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,  по  причинам ВН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числе случаев ВН – в графу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187280" y="5533920"/>
            <a:ext cx="7110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ах с 7 по 16 – число случаев ВН, распределенных по пятилетним  возрастным групп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"/>
          <p:cNvPicPr/>
          <p:nvPr/>
        </p:nvPicPr>
        <p:blipFill>
          <a:blip r:embed="rId3"/>
          <a:stretch/>
        </p:blipFill>
        <p:spPr>
          <a:xfrm>
            <a:off x="49320" y="2494080"/>
            <a:ext cx="1150920" cy="1218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"/>
          <p:cNvPicPr/>
          <p:nvPr/>
        </p:nvPicPr>
        <p:blipFill>
          <a:blip r:embed="rId4"/>
          <a:stretch/>
        </p:blipFill>
        <p:spPr>
          <a:xfrm>
            <a:off x="42840" y="4005360"/>
            <a:ext cx="1152720" cy="1225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5"/>
          <a:stretch/>
        </p:blipFill>
        <p:spPr>
          <a:xfrm>
            <a:off x="49320" y="5535720"/>
            <a:ext cx="1150920" cy="12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6480" y="0"/>
            <a:ext cx="9252000" cy="6885000"/>
          </a:xfrm>
          <a:prstGeom prst="rect">
            <a:avLst/>
          </a:prstGeom>
          <a:ln w="0">
            <a:noFill/>
          </a:ln>
        </p:spPr>
      </p:pic>
      <p:sp>
        <p:nvSpPr>
          <p:cNvPr id="6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08000" y="633240"/>
          <a:ext cx="9036000" cy="4486320"/>
        </p:xfrm>
        <a:graphic>
          <a:graphicData uri="http://schemas.openxmlformats.org/drawingml/2006/table">
            <a:tbl>
              <a:tblPr/>
              <a:tblGrid>
                <a:gridCol w="718920"/>
                <a:gridCol w="649440"/>
                <a:gridCol w="431640"/>
                <a:gridCol w="459000"/>
                <a:gridCol w="909720"/>
                <a:gridCol w="863640"/>
                <a:gridCol w="502920"/>
                <a:gridCol w="433440"/>
                <a:gridCol w="574920"/>
                <a:gridCol w="433080"/>
                <a:gridCol w="432000"/>
                <a:gridCol w="503280"/>
                <a:gridCol w="576360"/>
                <a:gridCol w="504720"/>
                <a:gridCol w="477720"/>
                <a:gridCol w="565200"/>
              </a:tblGrid>
              <a:tr h="28008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а нетрудоспособ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фр по МКБ X пере-смот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ней времен-ной нетрудо-способ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лучаев времен-ной нетрудо-способ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возрастам (ле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- 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- 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- 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- 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- 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- 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- 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- 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- 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лет и старш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-цион-ные и паразитарные болез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00 - B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54000" y="0"/>
            <a:ext cx="9252000" cy="6885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187280" y="960120"/>
            <a:ext cx="711072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реднюю длительность ЛН по всем нозолог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авнении с прошлым го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34920" y="189000"/>
            <a:ext cx="8858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 ВНИМАНИЕ ПРИ ЗАПОЛН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"/>
          <p:cNvSpPr/>
          <p:nvPr/>
        </p:nvSpPr>
        <p:spPr>
          <a:xfrm>
            <a:off x="-71280" y="766800"/>
            <a:ext cx="92516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"/>
          <p:cNvPicPr/>
          <p:nvPr/>
        </p:nvPicPr>
        <p:blipFill>
          <a:blip r:embed="rId2"/>
          <a:stretch/>
        </p:blipFill>
        <p:spPr>
          <a:xfrm>
            <a:off x="36360" y="981000"/>
            <a:ext cx="1152720" cy="12258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1197000" y="2479680"/>
            <a:ext cx="711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редняя длительность ВН изменилась более, чем на 10% по сравнению с предыдущим годом - объяснить прич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1197000" y="4006800"/>
            <a:ext cx="7054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Н по туберкулезу показывают только МО, оказыва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ую (противотуберкулезную) медицинскую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1187280" y="5533920"/>
            <a:ext cx="7110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, обслуживающие детское население, заполняют строки 53-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ход за больным» и ЛН, выданные работающим подросткам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ичинам В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3"/>
          <a:stretch/>
        </p:blipFill>
        <p:spPr>
          <a:xfrm>
            <a:off x="49320" y="2494080"/>
            <a:ext cx="1150920" cy="1218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"/>
          <p:cNvPicPr/>
          <p:nvPr/>
        </p:nvPicPr>
        <p:blipFill>
          <a:blip r:embed="rId4"/>
          <a:stretch/>
        </p:blipFill>
        <p:spPr>
          <a:xfrm>
            <a:off x="42840" y="4005360"/>
            <a:ext cx="1152720" cy="1225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5"/>
          <a:stretch/>
        </p:blipFill>
        <p:spPr>
          <a:xfrm>
            <a:off x="49320" y="5535720"/>
            <a:ext cx="1150920" cy="12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71280" y="-27000"/>
            <a:ext cx="9251640" cy="6885000"/>
          </a:xfrm>
          <a:prstGeom prst="rect">
            <a:avLst/>
          </a:prstGeom>
          <a:ln w="0">
            <a:noFill/>
          </a:ln>
        </p:spPr>
      </p:pic>
      <p:sp>
        <p:nvSpPr>
          <p:cNvPr id="79" name="Заголовок 1"/>
          <p:cNvSpPr/>
          <p:nvPr/>
        </p:nvSpPr>
        <p:spPr>
          <a:xfrm>
            <a:off x="49320" y="187200"/>
            <a:ext cx="8858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-71280" y="766800"/>
            <a:ext cx="92516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1160" y="836640"/>
          <a:ext cx="9094680" cy="3779640"/>
        </p:xfrm>
        <a:graphic>
          <a:graphicData uri="http://schemas.openxmlformats.org/drawingml/2006/table">
            <a:tbl>
              <a:tblPr/>
              <a:tblGrid>
                <a:gridCol w="1171440"/>
                <a:gridCol w="803520"/>
                <a:gridCol w="447480"/>
                <a:gridCol w="534960"/>
                <a:gridCol w="1068480"/>
                <a:gridCol w="1001520"/>
                <a:gridCol w="438480"/>
                <a:gridCol w="431640"/>
                <a:gridCol w="431640"/>
                <a:gridCol w="384480"/>
                <a:gridCol w="385560"/>
                <a:gridCol w="385920"/>
                <a:gridCol w="384120"/>
                <a:gridCol w="384120"/>
                <a:gridCol w="420840"/>
                <a:gridCol w="420480"/>
              </a:tblGrid>
              <a:tr h="321480"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а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фр по МКБ X пере-смо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ней времен-ной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лучаев времен-ной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возрастам (ле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- 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- 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- 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- 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- 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- 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-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- 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-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лет и стар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ременность, роды и послеродо-вой пери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00 - O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Rectangle 3"/>
          <p:cNvSpPr/>
          <p:nvPr/>
        </p:nvSpPr>
        <p:spPr>
          <a:xfrm>
            <a:off x="0" y="4797360"/>
            <a:ext cx="90583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4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─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ы все заболевания, являющиеся осложнением беременности, до декретного отпуска, а также осложнения после родов на протяжении всего послеродового периода. Также в этой строке указываются сведения о ВН по причине абортов (из строки 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71280" y="-27000"/>
            <a:ext cx="9251640" cy="6885000"/>
          </a:xfrm>
          <a:prstGeom prst="rect">
            <a:avLst/>
          </a:prstGeom>
          <a:ln w="0">
            <a:noFill/>
          </a:ln>
        </p:spPr>
      </p:pic>
      <p:sp>
        <p:nvSpPr>
          <p:cNvPr id="85" name="Заголовок 1"/>
          <p:cNvSpPr/>
          <p:nvPr/>
        </p:nvSpPr>
        <p:spPr>
          <a:xfrm>
            <a:off x="49320" y="187200"/>
            <a:ext cx="8858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СТРО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"/>
          <p:cNvSpPr/>
          <p:nvPr/>
        </p:nvSpPr>
        <p:spPr>
          <a:xfrm>
            <a:off x="-71280" y="766800"/>
            <a:ext cx="92516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9320" y="4797360"/>
            <a:ext cx="909468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14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и же строки включают случаи, связанные с протезированием, выполнением донорских функций, обследованием, в результате которого пациенту был поставлен диагноз «здоров» (ххı класс МКБ-Х «факторы, влияющие на состояние здоровья населения и обращения в медицинские организации ( с профилактическими и иными целями). Представить пояснительные запи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-36360" y="766800"/>
          <a:ext cx="9180360" cy="3957480"/>
        </p:xfrm>
        <a:graphic>
          <a:graphicData uri="http://schemas.openxmlformats.org/drawingml/2006/table">
            <a:tbl>
              <a:tblPr/>
              <a:tblGrid>
                <a:gridCol w="1117440"/>
                <a:gridCol w="746280"/>
                <a:gridCol w="500040"/>
                <a:gridCol w="993600"/>
                <a:gridCol w="995400"/>
                <a:gridCol w="903240"/>
                <a:gridCol w="425520"/>
                <a:gridCol w="415800"/>
                <a:gridCol w="416160"/>
                <a:gridCol w="334800"/>
                <a:gridCol w="335160"/>
                <a:gridCol w="333360"/>
                <a:gridCol w="415800"/>
                <a:gridCol w="417600"/>
                <a:gridCol w="414360"/>
                <a:gridCol w="415800"/>
              </a:tblGrid>
              <a:tr h="321480"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а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фр по МКБ X пере-смо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ней времен-ной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лучаев времен-ной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возрастам (ле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- 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- 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- 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- 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- 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- 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-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- 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-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лет и стар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86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всем причин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71280" y="-27000"/>
            <a:ext cx="9251640" cy="6885000"/>
          </a:xfrm>
          <a:prstGeom prst="rect">
            <a:avLst/>
          </a:prstGeom>
          <a:ln w="0">
            <a:noFill/>
          </a:ln>
        </p:spPr>
      </p:pic>
      <p:sp>
        <p:nvSpPr>
          <p:cNvPr id="91" name="Заголовок 1"/>
          <p:cNvSpPr/>
          <p:nvPr/>
        </p:nvSpPr>
        <p:spPr>
          <a:xfrm>
            <a:off x="49320" y="187200"/>
            <a:ext cx="8858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СТ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-71280" y="766800"/>
            <a:ext cx="92516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836640"/>
          <a:ext cx="9105840" cy="3779640"/>
        </p:xfrm>
        <a:graphic>
          <a:graphicData uri="http://schemas.openxmlformats.org/drawingml/2006/table">
            <a:tbl>
              <a:tblPr/>
              <a:tblGrid>
                <a:gridCol w="1152360"/>
                <a:gridCol w="806760"/>
                <a:gridCol w="449280"/>
                <a:gridCol w="536400"/>
                <a:gridCol w="1073160"/>
                <a:gridCol w="1004760"/>
                <a:gridCol w="439920"/>
                <a:gridCol w="433440"/>
                <a:gridCol w="433440"/>
                <a:gridCol w="385560"/>
                <a:gridCol w="387360"/>
                <a:gridCol w="387360"/>
                <a:gridCol w="385920"/>
                <a:gridCol w="385560"/>
                <a:gridCol w="422280"/>
                <a:gridCol w="422280"/>
              </a:tblGrid>
              <a:tr h="321480"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а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фр по МКБ X пере-смо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ней времен-ной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лучаев времен-ной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возрастам (ле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- 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- 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- 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- 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- 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- 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-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- 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-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лет и стар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пуск по беремен-ности и род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Rectangle 3"/>
          <p:cNvSpPr/>
          <p:nvPr/>
        </p:nvSpPr>
        <p:spPr>
          <a:xfrm>
            <a:off x="-27000" y="4797360"/>
            <a:ext cx="905832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─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есть рожавшие в возрасте 50-54 и 55-59 лет, то обязательно должны быть предоставлены документы, подтверждающие факт родов (№ больничного листа, выписка из родильного дом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й строке не должны указывать отпуск по уходу за малолетними дет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147600" y="-316080"/>
            <a:ext cx="9252000" cy="6885000"/>
          </a:xfrm>
          <a:prstGeom prst="rect">
            <a:avLst/>
          </a:prstGeom>
          <a:ln w="0">
            <a:noFill/>
          </a:ln>
        </p:spPr>
      </p:pic>
      <p:sp>
        <p:nvSpPr>
          <p:cNvPr id="97" name="Заголовок 1"/>
          <p:cNvSpPr/>
          <p:nvPr/>
        </p:nvSpPr>
        <p:spPr>
          <a:xfrm>
            <a:off x="49320" y="187200"/>
            <a:ext cx="8858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  <a:ea typeface="Arial"/>
              </a:rPr>
              <a:t>Таблица 2610 в Ф 3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"/>
          <p:cNvSpPr/>
          <p:nvPr/>
        </p:nvSpPr>
        <p:spPr>
          <a:xfrm>
            <a:off x="-71280" y="766800"/>
            <a:ext cx="92516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"/>
          <p:cNvSpPr/>
          <p:nvPr/>
        </p:nvSpPr>
        <p:spPr>
          <a:xfrm>
            <a:off x="1042920" y="2967120"/>
            <a:ext cx="77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Формируется на основании данных медицинских организаций. Отражается количество инвалидов, которые состоят на уче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74520" y="-36360"/>
            <a:ext cx="9252000" cy="6885000"/>
          </a:xfrm>
          <a:prstGeom prst="rect">
            <a:avLst/>
          </a:prstGeom>
          <a:ln w="0">
            <a:noFill/>
          </a:ln>
        </p:spPr>
      </p:pic>
      <p:sp>
        <p:nvSpPr>
          <p:cNvPr id="102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Заголовок 1"/>
          <p:cNvSpPr/>
          <p:nvPr/>
        </p:nvSpPr>
        <p:spPr>
          <a:xfrm>
            <a:off x="1835280" y="1471680"/>
            <a:ext cx="531792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Arial Black"/>
                <a:ea typeface="Arial"/>
              </a:rPr>
              <a:t>Спасибо</a:t>
            </a:r>
            <a:r>
              <a:rPr b="0" lang="en-US" sz="5400" spc="-1" strike="noStrike">
                <a:solidFill>
                  <a:srgbClr val="002060"/>
                </a:solidFill>
                <a:latin typeface="Arial Black"/>
                <a:ea typeface="Arial"/>
              </a:rPr>
              <a:t> </a:t>
            </a:r>
            <a:r>
              <a:rPr b="0" lang="ru-RU" sz="5400" spc="-1" strike="noStrike">
                <a:solidFill>
                  <a:srgbClr val="002060"/>
                </a:solidFill>
                <a:latin typeface="Arial Black"/>
                <a:ea typeface="Arial"/>
              </a:rPr>
              <a:t>за внимание</a:t>
            </a:r>
            <a:r>
              <a:rPr b="0" lang="en-US" sz="5400" spc="-1" strike="noStrike">
                <a:solidFill>
                  <a:srgbClr val="002060"/>
                </a:solidFill>
                <a:latin typeface="Arial Black"/>
                <a:ea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Заголовок 1"/>
          <p:cNvSpPr/>
          <p:nvPr/>
        </p:nvSpPr>
        <p:spPr>
          <a:xfrm>
            <a:off x="179280" y="4797360"/>
            <a:ext cx="7921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овдра Ольга Леонидов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-mail: olgashovdra@rambler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л. 8(914) 439-07-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2T10:10:09Z</dcterms:created>
  <dc:creator>Светлана</dc:creator>
  <dc:description/>
  <dc:language>en-US</dc:language>
  <cp:lastModifiedBy>Елена Александровна Бронникова</cp:lastModifiedBy>
  <dcterms:modified xsi:type="dcterms:W3CDTF">2019-12-20T01:12:39Z</dcterms:modified>
  <cp:revision>403</cp:revision>
  <dc:subject/>
  <dc:title>Слайд 1</dc:title>
</cp:coreProperties>
</file>