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84C-A041-464B-8512-B505AC3F86C5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56FE-A973-4551-8783-1790FE95A24D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6BE4-3D90-4906-912A-949B7D9665DE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-41400" y="-334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равила, порядок и требования </a:t>
            </a: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 заполнению ФСН №12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едения 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регистрированных у пациентов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живающих в районе обслуживания медицинской организации»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регистрирована Росстатом 22.11.2019 г. № 679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201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2" name="Таблица 1" descr=""/>
          <p:cNvPicPr/>
          <p:nvPr/>
        </p:nvPicPr>
        <p:blipFill>
          <a:blip r:embed="rId1"/>
          <a:stretch/>
        </p:blipFill>
        <p:spPr>
          <a:xfrm>
            <a:off x="749160" y="957240"/>
            <a:ext cx="75726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ми в номенклатуру медицинских организаций, оказывающих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05264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2. Дети первых трех лет жизни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60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акторы, влияющие на состояние здоровья населения и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ращения в медицинские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246320"/>
          <a:ext cx="7993080" cy="44082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71640" y="112536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755640" y="1989000"/>
            <a:ext cx="7777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(с ф. №14)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ь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в ф. № 12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. №14</a:t>
            </a:r>
            <a:br>
              <a:rPr sz="4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63440" y="789120"/>
            <a:ext cx="88394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а результата не являются диагнозом какого-либо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 ф. №12 и ф. №14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заболеваний у пациентов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Светлана Викторовна Шалаева</cp:lastModifiedBy>
  <dcterms:modified xsi:type="dcterms:W3CDTF">2019-12-18T02:30:57Z</dcterms:modified>
  <cp:revision>433</cp:revision>
  <dc:subject/>
  <dc:title>슬라이드 1</dc:title>
</cp:coreProperties>
</file>