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46B0-2790-4FE8-AD96-EA550427E9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6A86-7998-48FC-8F19-CF935B65C3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2EFA-37B0-4A85-9862-F6D03E06EF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0B13-AA66-45F3-A8FB-C7053A13CD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A630-527D-4201-8502-90EFDE2C05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118-A485-41DB-9FB2-BE8DA58E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383-075E-4958-B5EE-EE2FA660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7E4-80FC-4327-8435-360376E2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8EB-DF44-42A9-B8DE-3731961D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DA04-3D2A-4A1D-BB0E-3B331098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E3F5-5C85-44AE-9187-CA6DFAD9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2705-6199-4C6E-94E0-220A0FF8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B599-0949-47F6-9323-B59AE7EE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2D01-F958-4728-9422-D7559860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DBF5-7B2F-40C6-A6FA-DF65D27E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F94E-34A0-4EBB-9288-AA8B5E85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22A-640A-4C0B-A5E5-CBB5A7A3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E077-5C38-4F93-B1F1-325535A6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97A9-AAD8-45C0-9BB6-0FEDC373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29DB-BB0D-45BE-A28D-AF6BC937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8E1A-A30A-4144-9BD8-0A71A750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980F-6772-4973-A371-A4A2F9F4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137-0C93-418F-967D-5B265B04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811-4380-4C4C-AD0A-E6061677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646-FEA2-4837-B088-80260611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DA8-A875-4AAF-88A8-9DD9F22C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014-52E4-4AF5-9B49-B2A990C2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07F-BE41-4C28-B402-E148EEF6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67E-D5D3-4496-A3EB-521F9352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>
              <a:gd name="textAreaLeft" fmla="*/ 0 w 9037800"/>
              <a:gd name="textAreaRight" fmla="*/ 9038160 w 9037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8229-F06A-4AA6-9E3B-E6106F9824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4B0A-545E-471B-924F-ADEB3F01B4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за 2019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тьяна Анатольевна Макс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лавный внештатный специалист по проблемам диагностики и лечения ВИЧ – инфекции МЗ З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строку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оказывается число пациентов, с ВИЧ-инфекцией с проявлениями туберкулё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строке 1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ется число пациент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ВИЧ-инфекцией с проявлениями Т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ды В20.0, В20.7, В22.7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и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мерших в отче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 всех причин, то есть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ды В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7391-B8FC-4B13-97EC-6A0481AC8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500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межформенный контроль с формой 13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ой 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5000 включают женщин, проживающих на прикрепленной территории и находящихся под диспансерным наблюдением в данной медицинск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казывается общее число беременных женщин с болезнью, вызванной ВИЧ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ершивших беременность в отчетном го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строке 2 показываются сведения о тех из них, кто завершил беременность родами в отчетном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4D32-B31B-4669-B7F2-0FED62A69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60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е 3 пок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е число пациен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лезнью, вызванной ВИЧ, из числа состоявших под наблюдением в отчетном году, зарегистрированных для ле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е 4 - те из них, кто был зарегистрирован для леч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впервые в жизни установленным диагноз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и, вызванной ВИЧ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рафа 5 не заполня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407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ываются только те пациенты с ВИЧ-инфекцией, которы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ыли проле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текущем год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201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63B8-995F-481B-95B3-BB5C56AEC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kkib.sibhos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6453-29F6-4234-8705-747277F604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рочник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в себя только тех лиц, которые были обследованы на антитела к ВИЧ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дицинских организациях, относящихся к Минздраву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ока 1, пункт 2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ловия контроля: строка 1, пункт 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пункт 3 (В20-24)+пункт 4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E5B5-88C2-4859-9F6F-F9EA0BD95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476280"/>
            <a:ext cx="86090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0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обследованных на антитела к ВИЧ в отчетном году, вс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троль с ф.30, т.53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число лиц, у которых при исследовании крови на антитела к ВИЧ получены положи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       контроль с ф.30, т.53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2) выявлено: пациентов больных ВИЧ-инфекцией (код МКБ 10 В20-В24) 3 _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контроль с ф.61, т.1000, стр.1+2, гр. 05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 с бессимптомным инфекционным статусом (код МКБ-10 Z21)  4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__контроль с ф.61, т.1000, стр.59+60, гр. 05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7000"/>
            <a:ext cx="160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981000"/>
            <a:ext cx="830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.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очника 3100, пункт2-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5+46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 47+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таб.1000, стр.1+2, гр.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1-4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3-4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.49-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51-5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4F90-0585-4C9C-B63B-9211795DB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.57- 60, гр.5-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57-5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М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 59-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подстрочника 3100, пункт  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2503-6403-44A5-98AF-61216CF31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1-8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 подстрочника 3100,  пункт 1-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роме посмертных случае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10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 подстрочник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100, пункт 4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9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аб.1000, стр.57-58, гр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DB72-735C-48E5-8F82-334ADF5348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линические стад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A7C3-7364-461A-9E62-5EE3049E3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3000 показываются только те пациенты с ВИЧ-инфекцией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торые были обслед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 отчетном году – 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C43D-DAE9-48AA-95D8-16C147443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92120" y="1555920"/>
          <a:ext cx="8228160" cy="4735440"/>
        </p:xfrm>
        <a:graphic>
          <a:graphicData uri="http://schemas.openxmlformats.org/drawingml/2006/table">
            <a:tbl>
              <a:tblPr/>
              <a:tblGrid>
                <a:gridCol w="3384720"/>
                <a:gridCol w="384120"/>
                <a:gridCol w="768240"/>
                <a:gridCol w="923760"/>
                <a:gridCol w="922680"/>
                <a:gridCol w="922320"/>
                <a:gridCol w="922320"/>
              </a:tblGrid>
              <a:tr h="386640"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marL="20520"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с впервые в жизни установленным диагно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конец отчетног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возрас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4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возрас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4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больные ВИЧ-инфекцией с проявлениями туберкулеза, 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0, В20.7, В2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с проявлениями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явлениями туберкулеза и других инфекц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явлениями туберкулеза и других болезней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: с бактериовыделением, определяемым любыми метод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5): методом простой микроскопии мокро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 (из стр.5)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ножественной лекарственной устойчивостью микобактерий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58320" rIns="58320" tIns="0" bIns="0" anchor="ctr">
                      <a:noAutofit/>
                    </a:bodyPr>
                    <a:p>
                      <a:pPr marL="290520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широкой лекарственной устойчивостью микобактерий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 (из стр.1) обследовано на иммунны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имели уровень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:    более 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больные ВИЧ-инфекцией с проявлениями туберкулеза, которым установлен диагноз вирусного гепатита (из стр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гепатит 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6, В18.0, В18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патит 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7.1, В18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всего (из стр.1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 – муж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 – городских жи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565200" y="827640"/>
            <a:ext cx="81565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spAutoFit/>
          </a:bodyPr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. Диспансерное наблюдение за пациентами, больными ВИЧ-инфекцией с проявлениями туберкуле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400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по ОКЕИ: человек – 7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701320" y="2274840"/>
            <a:ext cx="347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нтроль с ф. 33, т. 2100,стр.13, гр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лево 8"/>
          <p:cNvSpPr/>
          <p:nvPr/>
        </p:nvSpPr>
        <p:spPr>
          <a:xfrm>
            <a:off x="5429160" y="2325600"/>
            <a:ext cx="276480" cy="25884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62680" y="2584440"/>
            <a:ext cx="882360" cy="62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троль с ф. 61,    т. 2000, стр. 21, 22, 41, гр.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6899400" y="2584440"/>
            <a:ext cx="857160" cy="62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троль с ф. 61, т. 2000,стр.21,22,41, гр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284040" y="128520"/>
            <a:ext cx="851400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аблицу 40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только тех пациентов, у которых туберкулез диагностирован как проявление болезни, вызванной ВИЧ, и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е включают пациент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которых туберкулез был выявлен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о установления диагноз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, вызванной ВИ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Волошина ЛИ; Центр СПИД Чита</dc:creator>
  <dc:description/>
  <dc:language>en-US</dc:language>
  <cp:lastModifiedBy>Миргород</cp:lastModifiedBy>
  <dcterms:modified xsi:type="dcterms:W3CDTF">2019-12-19T04:25:39Z</dcterms:modified>
  <cp:revision>210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