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B83-29BC-45D0-B324-CF3D06C2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F2CA-0DB6-4FE3-8854-D21BDDB5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65D-C38D-436B-9BBC-A065C224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661-24B3-4940-B6D8-8BFCA69F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9CC-6916-4CAE-80EE-E9480D74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541-B0A6-4F52-B780-E2EB1380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556-6838-43A6-8CF6-093CBCFC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F5D-9EB8-4A2B-897C-D2D4B9D3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4B9-88B3-41FE-B0E4-F3824B05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A7B-8A88-467A-BF88-ACEBD9F8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1BE-1B95-4B32-9502-B20D3E50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566-AAE0-49F2-8EDD-8031BB5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C8A3-0456-42EE-90F6-D5AE236C76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чет по функциональной диагност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 30 – таблицы 5401, 5402, 54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ЭКГ дистанционно – строка 3 таблицы 5402 и строка 51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хоКГ, УЗ исследование сосудов, ЭхоЭГ – в отчет по ультразвуковой диагностике (т. 51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яснительная запис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Штат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если совместители – внешние или внутренние. Внутренние – основная специа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ппаратур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название – фирма производитель – год выпуска – тех. Состоя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taly.barkan@yandex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18:43:47Z</dcterms:created>
  <dc:creator>пк</dc:creator>
  <dc:description/>
  <dc:language>en-US</dc:language>
  <cp:lastModifiedBy>пк</cp:lastModifiedBy>
  <dcterms:modified xsi:type="dcterms:W3CDTF">2024-12-11T19:50:43Z</dcterms:modified>
  <cp:revision>2</cp:revision>
  <dc:subject/>
  <dc:title>Отчет по функциональной диагностике</dc:title>
</cp:coreProperties>
</file>