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B95-75A1-43B7-B797-3C346D8F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C37A-87FE-4888-AA98-FE676E75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B66-3924-46AC-9017-49CE2491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8C49-F992-47CD-9BF7-E5728498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3E84-9FEE-444F-992C-BC10CF5A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D18-71F7-43CA-BAA2-E48D61DC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47AD-6BC7-4EA0-8B5A-675035A4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BD1A-6F1C-4B93-B4C4-BC61286A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237-E187-40BD-AAB1-410E4F16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059-EBF3-4000-B6D6-BB58D923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5B5-88F2-4EDA-AD35-F5395CE2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5D3-C4EA-4C2F-87D3-3A89B472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E628-69F8-48A9-B213-3AFF1C05E9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8569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УЗ «ЗАБАЙКАЛЬСКОЕ КРАЕВОЕ ПАТОЛОГОАНАТОМИЧЕСКОЕ БЮ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. Чита 2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Благодарю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218"/>
          <p:cNvSpPr/>
          <p:nvPr/>
        </p:nvSpPr>
        <p:spPr>
          <a:xfrm>
            <a:off x="2362320" y="-630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048"/>
          <p:cNvSpPr/>
          <p:nvPr/>
        </p:nvSpPr>
        <p:spPr>
          <a:xfrm>
            <a:off x="826920" y="545040"/>
            <a:ext cx="79218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абинеты, отделения, подразделения, ед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001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1484280"/>
          <a:ext cx="8135640" cy="3973680"/>
        </p:xfrm>
        <a:graphic>
          <a:graphicData uri="http://schemas.openxmlformats.org/drawingml/2006/table">
            <a:tbl>
              <a:tblPr/>
              <a:tblGrid>
                <a:gridCol w="3922560"/>
                <a:gridCol w="654120"/>
                <a:gridCol w="1598400"/>
                <a:gridCol w="1020960"/>
                <a:gridCol w="939600"/>
              </a:tblGrid>
              <a:tr h="7970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  отделений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- 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-гинек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 gridSpan="5">
                  <a:txBody>
                    <a:bodyPr lIns="90000" rIns="900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олжение Табл. 1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62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атологоанатомичес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аличие отделения следует показывать только тогда, когда в отчете имеются штатные и занятые должности врачей, проверить наличие лицензии на данный вид услу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 наличии отделения указать 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нтрал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: патологоанатомических бюр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ро судебно-медицинской экспертиз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ивания кр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ые цент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Прямоугольник 1"/>
          <p:cNvSpPr/>
          <p:nvPr/>
        </p:nvSpPr>
        <p:spPr>
          <a:xfrm>
            <a:off x="684360" y="5732640"/>
            <a:ext cx="806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100) Должности и физические лица медицинской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26920" y="6021360"/>
          <a:ext cx="7921800" cy="365040"/>
        </p:xfrm>
        <a:graphic>
          <a:graphicData uri="http://schemas.openxmlformats.org/drawingml/2006/table">
            <a:tbl>
              <a:tblPr/>
              <a:tblGrid>
                <a:gridCol w="1451160"/>
                <a:gridCol w="309600"/>
                <a:gridCol w="363600"/>
                <a:gridCol w="365040"/>
                <a:gridCol w="365040"/>
                <a:gridCol w="316080"/>
                <a:gridCol w="365040"/>
                <a:gridCol w="365040"/>
                <a:gridCol w="420840"/>
                <a:gridCol w="527040"/>
                <a:gridCol w="585720"/>
                <a:gridCol w="353880"/>
                <a:gridCol w="365400"/>
                <a:gridCol w="374400"/>
                <a:gridCol w="465120"/>
                <a:gridCol w="463680"/>
                <a:gridCol w="465120"/>
              </a:tblGrid>
              <a:tr h="365040">
                <a:tc>
                  <a:txBody>
                    <a:bodyPr lIns="57600" rIns="57600" tIns="0" bIns="0" anchor="b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тологоанато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8031"/>
          <p:cNvSpPr/>
          <p:nvPr/>
        </p:nvSpPr>
        <p:spPr>
          <a:xfrm>
            <a:off x="1955880" y="-138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9371"/>
          <p:cNvSpPr/>
          <p:nvPr/>
        </p:nvSpPr>
        <p:spPr>
          <a:xfrm>
            <a:off x="949320" y="903960"/>
            <a:ext cx="11634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8. Оснащение основным технологическим оборудованием патолого-анатомического бюро (отделен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546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УКАЗАТЬ ПРИ НАЛИЧИИ , В ЦРБ, где есть отделения проставить количество только по строке 01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1844640"/>
          <a:ext cx="8642160" cy="4572000"/>
        </p:xfrm>
        <a:graphic>
          <a:graphicData uri="http://schemas.openxmlformats.org/drawingml/2006/table">
            <a:tbl>
              <a:tblPr/>
              <a:tblGrid>
                <a:gridCol w="4281480"/>
                <a:gridCol w="547560"/>
                <a:gridCol w="954000"/>
                <a:gridCol w="952560"/>
                <a:gridCol w="952560"/>
                <a:gridCol w="954000"/>
              </a:tblGrid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единиц оборуд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макроскопического исследования и вырезки (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ол для аутопсии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карусель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процессор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заливки парафиновых бло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с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ехан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отор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микрото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окраски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стейн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заключения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рабоч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универсаль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электро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поляризационн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цифров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539640" y="367560"/>
            <a:ext cx="8425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 Деятельность патолого-анатомического бюро (отде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1. Прижизненные патологоанатомические исследования биопсийного (операционного) матер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0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АННУЮ ТАБЛИЦУ ЗАПОЛНЯЮТ ТОЛЬКО 3 УЧРЕЖДЕНИЯ: ЗКОД, КМЦ и ЗКПА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79280" y="1844640"/>
          <a:ext cx="8748720" cy="4572000"/>
        </p:xfrm>
        <a:graphic>
          <a:graphicData uri="http://schemas.openxmlformats.org/drawingml/2006/table">
            <a:tbl>
              <a:tblPr/>
              <a:tblGrid>
                <a:gridCol w="3510000"/>
                <a:gridCol w="482760"/>
                <a:gridCol w="574560"/>
                <a:gridCol w="490680"/>
                <a:gridCol w="722160"/>
                <a:gridCol w="722520"/>
                <a:gridCol w="718920"/>
                <a:gridCol w="722520"/>
                <a:gridCol w="804600"/>
              </a:tblGrid>
              <a:tr h="346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-анатомические исследования биопсийного и операционного материал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-ным меди-цинск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-ция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патолого-анатом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патолого-анатомических исследований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иопсийного и операционного материала, включая последы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 (из стр. 4)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цитолог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(из стр. 9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9800" y="690480"/>
            <a:ext cx="961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2. Посмертные патологоанатомические исследования (вскрыт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ЛЯ ЦРБ по вскрытиям - категория сложности 1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484280"/>
          <a:ext cx="8280360" cy="5376960"/>
        </p:xfrm>
        <a:graphic>
          <a:graphicData uri="http://schemas.openxmlformats.org/drawingml/2006/table">
            <a:tbl>
              <a:tblPr/>
              <a:tblGrid>
                <a:gridCol w="3994200"/>
                <a:gridCol w="798480"/>
                <a:gridCol w="579240"/>
                <a:gridCol w="217440"/>
                <a:gridCol w="362160"/>
                <a:gridCol w="434880"/>
                <a:gridCol w="409680"/>
                <a:gridCol w="314280"/>
                <a:gridCol w="1170000"/>
              </a:tblGrid>
              <a:tr h="201240"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, оказывающих медицинскую помощь в стационарных услов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 (сумма  вскрытий умерших в стационаре по 14 форме и умерших на дому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ум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л-во вскрытий умерших на д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     умерш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 (168 час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.: 18–59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22–27 недел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кидышей при сроке беременности менее 22 нед. и массой тела менее 500 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 посмертного патолого-анатомического исследования матери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545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23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07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85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815"/>
          <p:cNvSpPr/>
          <p:nvPr/>
        </p:nvSpPr>
        <p:spPr>
          <a:xfrm>
            <a:off x="3516480" y="2246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893"/>
          <p:cNvSpPr/>
          <p:nvPr/>
        </p:nvSpPr>
        <p:spPr>
          <a:xfrm>
            <a:off x="5164200" y="2703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353960"/>
          <a:ext cx="8785440" cy="4596120"/>
        </p:xfrm>
        <a:graphic>
          <a:graphicData uri="http://schemas.openxmlformats.org/drawingml/2006/table">
            <a:tbl>
              <a:tblPr/>
              <a:tblGrid>
                <a:gridCol w="1865520"/>
                <a:gridCol w="458640"/>
                <a:gridCol w="674640"/>
                <a:gridCol w="441360"/>
                <a:gridCol w="701640"/>
                <a:gridCol w="784440"/>
                <a:gridCol w="664920"/>
                <a:gridCol w="441360"/>
                <a:gridCol w="700200"/>
                <a:gridCol w="701640"/>
                <a:gridCol w="676440"/>
                <a:gridCol w="674640"/>
              </a:tblGrid>
              <a:tr h="57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ОСТАВ ПАЦИЕНТОВ В СТАЦИОНАРЕ, СРОКИ И ИСХОДЫ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0)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                                                                                                                        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                       по МКБ-10 пересмот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старш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заболев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: 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кишечные инфек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А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197"/>
          <p:cNvSpPr/>
          <p:nvPr/>
        </p:nvSpPr>
        <p:spPr>
          <a:xfrm>
            <a:off x="3462480" y="2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55640" y="836640"/>
          <a:ext cx="7848720" cy="2268360"/>
        </p:xfrm>
        <a:graphic>
          <a:graphicData uri="http://schemas.openxmlformats.org/drawingml/2006/table">
            <a:tbl>
              <a:tblPr/>
              <a:tblGrid>
                <a:gridCol w="588960"/>
                <a:gridCol w="939960"/>
                <a:gridCol w="1081080"/>
                <a:gridCol w="892080"/>
                <a:gridCol w="590400"/>
                <a:gridCol w="938160"/>
                <a:gridCol w="939960"/>
                <a:gridCol w="938160"/>
                <a:gridCol w="939960"/>
              </a:tblGrid>
              <a:tr h="2156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старше трудоспособного возраста (с 55 лет у женщин и с 60 лет у мужчин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Line 763"/>
          <p:cNvSpPr/>
          <p:nvPr/>
        </p:nvSpPr>
        <p:spPr>
          <a:xfrm>
            <a:off x="3375000" y="26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3284640"/>
          <a:ext cx="8785440" cy="2881080"/>
        </p:xfrm>
        <a:graphic>
          <a:graphicData uri="http://schemas.openxmlformats.org/drawingml/2006/table">
            <a:tbl>
              <a:tblPr/>
              <a:tblGrid>
                <a:gridCol w="598680"/>
                <a:gridCol w="743040"/>
                <a:gridCol w="838080"/>
                <a:gridCol w="625320"/>
                <a:gridCol w="812880"/>
                <a:gridCol w="663480"/>
                <a:gridCol w="665280"/>
                <a:gridCol w="738360"/>
                <a:gridCol w="885600"/>
                <a:gridCol w="811440"/>
                <a:gridCol w="661680"/>
                <a:gridCol w="741600"/>
              </a:tblGrid>
              <a:tr h="23652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26)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тав-леных по экст-ренным показа-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2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18  выписан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гр.28 умерл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 заполнить списки по всем умершим, по взрослому и детскому населению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данные списки необходимо сверить с органами ЗАГС, врачами патологоанатомами и СМЭ в районе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выверенные списки в 2-х экземплярах и форму 14 и 30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едоставить ответственным сотрудникам Бюро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ием отчетов осуществляется в ЗКПАБ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зрослому сектору – Герасимова Анастасия Александровна, заведующая отделением (тел.31-43-0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етскому сектору – Золотухина Анастасия Олеговна, заведующая отделением (тел. 31-42-9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ститель начальника по ОМР Жевтнева Елена Владимировна (тел. 31-44-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9:15:16Z</dcterms:created>
  <dc:creator>User</dc:creator>
  <dc:description/>
  <dc:language>en-US</dc:language>
  <cp:lastModifiedBy>НН</cp:lastModifiedBy>
  <cp:lastPrinted>2023-12-13T07:13:07Z</cp:lastPrinted>
  <dcterms:modified xsi:type="dcterms:W3CDTF">2023-12-14T01:48:01Z</dcterms:modified>
  <cp:revision>61</cp:revision>
  <dc:subject/>
  <dc:title>Слайд 1</dc:title>
</cp:coreProperties>
</file>