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A592-BD2F-45F0-852B-7905DC22D5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371-27F9-41B7-AD60-D1854EA344FC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42FB-4A82-451B-896A-319D388CA4B0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004B-08BB-4518-85E5-B558E779C6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A60F-FD64-4A94-BC0B-E079BA3B22D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14EC-A4A5-4BC2-90C8-DF43CA9565F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B44E-7D79-4443-A36A-941F5678639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963F-6592-42B8-925F-39CBDBE094D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E388-4A64-45C6-905C-933DC206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8D8-4FA8-4A8F-923C-A50CE754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1C1-D0D0-446F-8D4B-83BC3A3E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82FF-8A18-4725-9366-A3336547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E040-7562-479E-AE57-31F785D9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37D-1528-4385-8FCC-20AA0CB9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AB4-38CE-40A2-8251-846CE110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573-A680-4A07-A92F-32E8B893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98E-85DE-442B-B948-F661ACC7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482-E2D4-4001-8C1D-DD8A2EFF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AA0-4330-42B8-9A9D-DB8FE9B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145-BBFB-4385-8D6A-078EB06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C19-D42F-404A-968A-C4AADF95A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89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1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2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2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3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1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2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7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1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3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9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5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9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3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1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0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1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2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Алена Александровна Кандеева</cp:lastModifiedBy>
  <cp:lastPrinted>2018-12-10T14:36:03Z</cp:lastPrinted>
  <dcterms:modified xsi:type="dcterms:W3CDTF">2021-12-21T03:13:57Z</dcterms:modified>
  <cp:revision>176</cp:revision>
  <dc:subject/>
  <dc:title>Презентация PowerPoint</dc:title>
</cp:coreProperties>
</file>