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1680-9059-4754-BE21-7E83E7F0E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6D12-0DC4-4653-AA93-50EAAE6BD0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304F-EA92-4E8F-8F0A-66DA70DCFC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87F5-7587-4475-99C7-104120A83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D6A8-9137-441F-BEB1-50DA800CB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570C-A123-429C-A10C-E9C1A93C2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1FA0-52DC-48B0-9D8B-B00D20161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3523-FE01-4727-BB0F-04348C233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CCBB-421F-4064-9708-BC450D1865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6E0E-8073-4368-8282-0F2AE304F2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5323-F238-422F-AB79-90E1FF8FD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68B2-BEA8-40DF-AB5B-6C942A654A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BFCE-1126-412C-8E55-8FA5DA4F4F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B2AD-E1FA-41CD-97CA-E62052798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4C0C-73DE-471E-A069-81015AE79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02D7-9845-4A86-89A7-3758C85BC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6133-76AF-40C2-B4E6-1603119F5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F8FD-0052-4245-8617-5F54D7A15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870E-68AE-43DA-BB91-9B1BB79CD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740F-7365-4AD0-8908-0528FD97E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3F85-D509-49D2-AC0E-FEFFC2B50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E385-FA14-4EDD-94A7-FE57547365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A7BB-0BE8-4DC8-9785-A50C3843B3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AB4A-CA9C-423A-A533-50997DF7E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3182-CC01-4C3F-B394-99E046A7C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98A5-AC9A-4292-B42E-366DE4903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5B46-E7C2-4FCF-8041-88486C04A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8B39-D172-4883-BE8B-AF68DD446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19D2-C2F2-4FA3-B6D7-28922AF67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7668-7072-4A5C-AEA2-7BF85C3B22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0889-DEF1-45D0-9D00-4DF512AA7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9EFA-5EBC-4D41-A50A-3BAEF588AC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C01D-9C52-4600-A9EF-C6C35888BF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6F58-58DA-4409-98E7-1CA892ACE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A290-5F39-4590-A8CE-BAB470E0E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4F1E-294E-4D7D-A30A-146A057A1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33E8-B729-4752-A7E2-C7F160C915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9F06-59C3-4AF1-83F9-83790834E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F370-2450-4CB1-A0B8-4A65F716E5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4F4E-2642-43CD-90BC-51C11AB46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B63A-42C4-4C38-8512-3BF9F63246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3BCD-D5D9-4A29-932C-90E419674E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1431-5EC2-4080-B489-2067F7230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D65D-BB79-4419-BA9E-C11E69A11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9245-7CC0-4F51-BB13-1DA0D886A9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B93-E8FA-4BF5-B424-2AFD582A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D69-9A77-401D-A3B9-992AA617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937-D7D9-4338-B4D1-5B4F8BE9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1E9-DDBE-43F2-AC3F-66B08364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6CB-9D5A-44D3-910B-AF3E34B1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31F-FF33-4C8D-8926-D5F72E1C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747-26B7-4690-97E1-465499C5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970-CA82-4E8C-A6DE-2CC7ED82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E85-A735-486F-BB6B-29CDCE46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4A4-653E-4E3E-A4E5-C0344EBC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300-0E84-481A-B8D0-ED771303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A00-7A74-4E23-8D45-BEC7BA99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D1ED-491A-40BF-92C1-94F8C8B057A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Елена Александровна Бронникова</cp:lastModifiedBy>
  <cp:lastPrinted>2020-12-02T13:53:05Z</cp:lastPrinted>
  <dcterms:modified xsi:type="dcterms:W3CDTF">2020-12-09T01:39:18Z</dcterms:modified>
  <cp:revision>379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