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7CCB-9614-4124-AE3E-BF1F3FF326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8127-5B05-43FE-A1E4-3577CBD706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C6D-B5CB-4E8F-B613-7BC6E28A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B81-DCFB-4716-85AC-BDC120B8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D1E-0F32-4F4A-A56E-024F80A3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8F6-01AA-40A7-8FA6-8E77F1D6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970E-FC18-4FCC-AB2F-1F25B16A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7EC7-BB01-4F7F-B096-7BD3FA6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B740-3540-4063-AF6A-D8E7A060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D07F-4D07-4704-B343-FC381BA6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E34F-2AE6-4C2B-8F3B-A104D7A6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DF2C-CCB0-44A4-BB0E-443658B2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EC29-9850-45E5-86F5-3ACD1466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B1A-CA85-423B-A168-097ECDF9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6057-1B1E-4F48-B7A5-95A71AB3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721B-6274-4C3E-A9D5-B8B6249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E775-821C-44B6-9E6C-900191A9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925A-0981-4701-BAB8-BB0BF8BB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DB37-6075-4703-A08C-5E35B996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D136-AEF1-4A8A-B881-F16054D2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118A-8A93-439C-B3E9-75344173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2D73-67B2-476E-8D8E-E0037B17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B2B0-BEC5-4559-92B1-1826767A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68AF-551A-4879-8930-48F1BFA3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73E-4D49-41A0-BAC0-43E3E09C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2CEA-267F-4D8C-991D-4FBA48F1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B2A5-8E14-438D-A11D-2173884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F5F2-2198-407E-BC94-C8F979E4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0D15-0A8B-4D7A-81A9-0D4E485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DEA0-B157-458B-8892-20DE1BB1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D654-77AE-426A-A41F-6778D950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F9BC-ADDC-4B89-976B-7D35E5AE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F1F1-60C2-487A-90D9-0DCBDDBD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DCB2-E6C2-411D-8048-C7773A96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5507-EC15-4363-AF22-246715A6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32F-1CC7-4450-9E2F-F1F23715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DCF1-F914-46CF-8BF1-5DD0BDB9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50CB-5136-4392-9BFD-D2689684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FA8B-C56C-4198-95D1-82A35E1C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3D41-F5FF-4719-906F-853EAD74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493A-CCA3-4F13-86E4-6DF4692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3C5B-D9D3-45B2-ACFF-9FD30B6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969A2-D96D-4D25-90AF-9E4900C4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1A57-BD32-4686-820E-8B8B89A2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4C2B-0237-45AC-80CC-42BB0D88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83F-BE9B-4DF6-A830-F6E077C8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90D-9182-4C04-9341-C3C7730D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014-A100-439D-96CC-F70F2BC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6B6-DA16-4AD4-98A7-237447D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B06-8F71-42BF-9774-E6246EC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949F-E52F-42A2-8087-D145046F18DF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610C-82E4-4523-8509-283AB0DD9B41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9DEC-5334-4443-8D85-BFBC6FDE1CEB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4A2F-75B1-4043-81F3-665E8BC89DD2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1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0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5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7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3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4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1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6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1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5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Елена Александровна Бронникова</cp:lastModifiedBy>
  <cp:lastPrinted>2016-12-07T09:58:05Z</cp:lastPrinted>
  <dcterms:modified xsi:type="dcterms:W3CDTF">2020-12-09T01:33:50Z</dcterms:modified>
  <cp:revision>5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