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1972-DD88-43FD-8B7F-011B698E5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367D-F516-4AFE-905E-DF60F26A6F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A7B-2C3E-4688-A520-5611666E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AA9-E4EA-409F-A5E7-1EF3518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12A-DD4C-468B-88BD-13652A32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CC2-A4A1-4A5D-A672-484C8E89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6953-0EA1-45C8-BB1D-65266257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034A-5615-44A5-AB97-A0A938CD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D25B-7BFA-45C4-9A89-DFB84C9C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C58A-6C78-41DD-83A6-4E74EE80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44B9-940A-433A-AD4F-23E85434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29A7-F2A3-4F48-B00B-EF9D50D8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AFD9-E544-4902-9EF1-892806AF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956-AE01-4156-AEC0-20548D81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9A3E-A197-49F0-9B88-999743A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90E2-40F4-4B5D-9220-4FB6BCA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9DCA-0D08-43DC-8B21-329EFF07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CCFB-7A3C-4863-8BC7-521A9B5F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1677-9E0F-4DE9-8ABB-069AD32D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1160D-062D-4220-A010-F70F09B4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80B71-67F6-45CE-B2FD-40191909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18351-EBBA-48D9-9F93-EBCDB4C3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0BF99-9F13-41E0-8FED-AEB5964F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8FDF1-ECA2-4B2B-9EA5-841B5DA6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0ED-D2B5-4D97-8327-5B00AAB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31E25-0AD4-43CF-B0FD-5CC5FF70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CF571-3D21-4A8B-952E-9F1ADD8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7BCF5-CF65-4A4A-BC6E-D1AC6F5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4B549-ECDE-4DA1-B4A4-4A7AD16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E43F7-ADAD-4C68-A0A0-CC3976BB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0141E-36E0-43BF-9E4F-C303331F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44C6B-C1E0-4868-9FDF-FD8EF329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F0E48-6583-4B59-A8FC-56EF07F5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537B0-B46A-4090-8D2A-8D17595E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35487-0C76-4D05-BF9C-C5CD0FC2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536-895F-44E0-89AE-60CC3EB5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C512A-449B-43F7-96FD-2880A09E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55EF4-D309-4B99-AD63-534151E1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F6497-E3F2-4094-AD02-5DAF6980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D84DE-61FF-4E70-B9F1-49CBB274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E329F-EB4C-4281-A032-A3D60FED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817B2-9D56-4C39-9ED5-A4A2407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98EEB-A5FE-4E20-A026-BB1E5BE3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C4AED-8748-4412-9467-50A4F76C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1E6DD-C5DB-45E4-A6CD-3ED2C7B7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941-E2A8-4CAF-AE9F-929B4830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70F-93A4-4ED5-9CAA-9113E1C6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1DE-A421-4F8F-A1D5-064B4F8F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CFA-7500-4405-93EA-C2D1301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7B7-EEAF-4551-975C-A0CE7F9C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DFB1-A71A-4C8D-8BB8-3E4DCE109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CEE1-44F6-41A6-802E-B0E2B6922D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257C-2DF2-4BFD-A807-7C259967B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B3ED-AE78-47E0-BD88-3E569E87E9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Елена Александровна Бронникова</cp:lastModifiedBy>
  <cp:lastPrinted>2017-12-07T17:18:35Z</cp:lastPrinted>
  <dcterms:modified xsi:type="dcterms:W3CDTF">2020-12-09T01:10:46Z</dcterms:modified>
  <cp:revision>802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