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76BF-10D6-406C-B7C8-8BE9E5D9B2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1A54-EC7A-4493-BB73-34768F66143D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E1A3-591C-4893-A12C-569C1D3FD85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6DCD-AE45-4AD2-AD0A-4958DD9A17E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478-ECE9-4043-8092-04F382EC67E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CB6C-7B93-41B2-BA84-CD04A77329F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0772-85D1-4693-A100-7BEF931FE4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953-9D34-48A6-874E-7FA5B42D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0CB-2270-4E92-B330-AB80DBF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784-ADA5-49DD-A9DD-AE0047D6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DBB-5D8D-4591-9355-7BC0AD1B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BA9-FF1D-4860-BC49-A85AB36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F56-541C-4CB8-87EA-2CE0F2EC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B3A-F777-48F1-9CB8-99AAAF76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047-1B9A-49F2-9D23-22D71DBE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53B-5D84-42DA-8589-27752A70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F47-BCBF-497B-AE44-35562B12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AE6-8045-475C-BCE6-B89A54DD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081-97C2-497B-A712-E17D6D16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D793-B428-4135-B261-95385732B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94040"/>
            <a:ext cx="8480520" cy="366840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2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Елена Александровна Бронникова</cp:lastModifiedBy>
  <cp:lastPrinted>2018-12-10T14:36:03Z</cp:lastPrinted>
  <dcterms:modified xsi:type="dcterms:W3CDTF">2020-12-09T01:47:18Z</dcterms:modified>
  <cp:revision>126</cp:revision>
  <dc:subject/>
  <dc:title>Презентация PowerPoint</dc:title>
</cp:coreProperties>
</file>